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4C38-3693-4FFF-90E9-AF6206BC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CC91-0C81-4DB1-9E1E-5C12B5F1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3273-6440-4E07-A10E-E837F1A25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AE3-CBFD-422B-9D13-91A83084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382-991E-40C8-A1C9-F7758695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BE5-1021-494D-AFD4-8E7EBA68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AE0-9215-4794-BBEE-616C8513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32C-60DB-4E93-BF1D-B9DE7A28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1B8-E7B0-4FD0-A57E-AFD15251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131-2412-4FD6-91D0-17EE17F0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691-C138-424C-A8AB-5764E6DC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313-3DF2-4706-87DE-DA7CC6FA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9DD-1FEA-4985-89CB-6A0A3CCA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660-2A43-436F-BF30-D26E45B2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467-444B-4C7E-B995-A49A2158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A25F-2FA4-4769-B9EB-629805B81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четверт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четверт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Мощь и п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Shalva Amaonashvili</cp:lastModifiedBy>
  <dcterms:modified xsi:type="dcterms:W3CDTF">2008-08-16T12:41:22Z</dcterms:modified>
  <cp:revision>119</cp:revision>
  <dc:subject/>
  <dc:title>Slide 1</dc:title>
</cp:coreProperties>
</file>