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A8B-08CD-485C-8CB2-5BC0E803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2F0-429F-4F1B-9A17-5653198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449-7BD0-4AE5-A834-78CCE852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6CF-098E-45D5-8071-42B64F5C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5C7-667B-43DF-A707-1B0F120E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E91-7F00-4E6D-A2DA-9629523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0DA-9A98-45BB-B51B-BA8F735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BF4-4CA3-406D-9307-F44062C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F2C-39FD-4759-A107-89E9553B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D0B-5DFC-45D3-AFC6-527FF30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350-71F0-4EF4-8E0F-D6BC11B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631-9456-4074-B3C8-547BF7E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BA7-32F8-4F0D-9515-0867C750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Слова подар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9F6-CA52-4E46-B41F-DF075852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8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54" name="Oval 5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6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2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4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8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9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1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29"/>
          <p:cNvSpPr/>
          <p:nvPr/>
        </p:nvSpPr>
        <p:spPr>
          <a:xfrm>
            <a:off x="4140360" y="1197000"/>
            <a:ext cx="502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B91-0BF2-4340-9F5E-F5C92294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379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0BDB-CF11-4058-884B-3DFED4B9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08000" y="404640"/>
            <a:ext cx="705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человеком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человеком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971640" y="476280"/>
            <a:ext cx="2663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973080" y="1054080"/>
            <a:ext cx="2664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любовь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6"/>
          <p:cNvSpPr/>
          <p:nvPr/>
        </p:nvSpPr>
        <p:spPr>
          <a:xfrm>
            <a:off x="1474920" y="32148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8"/>
          <p:cNvSpPr/>
          <p:nvPr/>
        </p:nvSpPr>
        <p:spPr>
          <a:xfrm>
            <a:off x="2556000" y="5445000"/>
            <a:ext cx="201600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9"/>
          <p:cNvSpPr/>
          <p:nvPr/>
        </p:nvSpPr>
        <p:spPr>
          <a:xfrm>
            <a:off x="6370560" y="24224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0"/>
          <p:cNvSpPr/>
          <p:nvPr/>
        </p:nvSpPr>
        <p:spPr>
          <a:xfrm>
            <a:off x="6515280" y="307008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6370560" y="3718080"/>
            <a:ext cx="21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CD1-0798-4D18-8FD2-AC520F64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D7E-5B4D-49BA-9E75-33B9B13F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3994200" y="1916280"/>
            <a:ext cx="1873080" cy="50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95640" y="2781360"/>
            <a:ext cx="18734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2170-FB9C-4F8C-A8EB-2026948A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261-2577-4230-9894-5A5359B5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700360" y="1285920"/>
            <a:ext cx="187308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075280" y="1341360"/>
            <a:ext cx="187308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492360" y="2133720"/>
            <a:ext cx="208764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BFC-87B1-4614-82EF-F4E52E4B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3A3-D1CB-4715-B4DE-63C87C748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82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3"/>
          <p:cNvSpPr/>
          <p:nvPr/>
        </p:nvSpPr>
        <p:spPr>
          <a:xfrm>
            <a:off x="826920" y="20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4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5"/>
          <p:cNvSpPr/>
          <p:nvPr/>
        </p:nvSpPr>
        <p:spPr>
          <a:xfrm>
            <a:off x="1909800" y="3500280"/>
            <a:ext cx="5745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6"/>
          <p:cNvSpPr/>
          <p:nvPr/>
        </p:nvSpPr>
        <p:spPr>
          <a:xfrm>
            <a:off x="4284720" y="1628640"/>
            <a:ext cx="143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DB2-FD8B-40BD-91EC-12D26717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108000" y="404640"/>
            <a:ext cx="720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ы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родился,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о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еловеком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должен стать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250920" y="2565360"/>
            <a:ext cx="50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лнце всех солнц   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есть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395280" y="5373720"/>
            <a:ext cx="468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Бог есть  любов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D2B3-0E4B-44CF-8284-BC6DEE05C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91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45" name="Oval 93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96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97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8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99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00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1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9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0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1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3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4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5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6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4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5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6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8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9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0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1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2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3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4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5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6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7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8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9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50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1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53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4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55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6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7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8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9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0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1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2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3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4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5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6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7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8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69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70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71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2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3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4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5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7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8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9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0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81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2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3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4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5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86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ACE-F67A-4DFC-BC9F-CE78A031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1908000" y="1628640"/>
            <a:ext cx="5616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ый человек из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брого сердца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носит доброе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B3F-2ACC-4953-9C7E-C101C806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908000" y="981000"/>
            <a:ext cx="5616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юбовь в сердце человека –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ро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 солнц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 ребята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ы очень добр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642 -0.37226 L 0.19705 0.26728 E">
                                      <p:cBhvr>
                                        <p:cTn id="6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329-EB18-4B8D-A801-22310F49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BAA-EBEA-4B89-B019-0E7D9F24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2633760" y="1035000"/>
            <a:ext cx="4168800" cy="40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982960" y="1087560"/>
            <a:ext cx="919080" cy="81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2124000" y="2916360"/>
            <a:ext cx="9176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281400" y="4416480"/>
            <a:ext cx="917640" cy="81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530680" y="4395960"/>
            <a:ext cx="91944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391440" y="2690640"/>
            <a:ext cx="917280" cy="81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354640" y="988920"/>
            <a:ext cx="919080" cy="814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189240" y="1233360"/>
            <a:ext cx="8128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322360" y="30146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50820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570640" y="1149480"/>
            <a:ext cx="812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567480" y="2863800"/>
            <a:ext cx="8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5759280" y="4494240"/>
            <a:ext cx="814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346560" y="1844640"/>
            <a:ext cx="2746440" cy="25448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3F0-3775-4CB2-B2CC-E5167B2D4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145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EDB-3C72-41F3-9CB9-D74DDEF0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16" name="Oval 1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BE6E-AAFF-4CF1-9D32-9834F6C00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332000" y="1779480"/>
            <a:ext cx="6408720" cy="3486240"/>
            <a:chOff x="1332000" y="1779480"/>
            <a:chExt cx="6408720" cy="3486240"/>
          </a:xfrm>
        </p:grpSpPr>
        <p:sp>
          <p:nvSpPr>
            <p:cNvPr id="236" name="Oval 3"/>
            <p:cNvSpPr/>
            <p:nvPr/>
          </p:nvSpPr>
          <p:spPr>
            <a:xfrm>
              <a:off x="4237200" y="1827360"/>
              <a:ext cx="583920" cy="51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4"/>
            <p:cNvSpPr/>
            <p:nvPr/>
          </p:nvSpPr>
          <p:spPr>
            <a:xfrm>
              <a:off x="4255920" y="29574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"/>
            <p:cNvSpPr/>
            <p:nvPr/>
          </p:nvSpPr>
          <p:spPr>
            <a:xfrm>
              <a:off x="4255920" y="23922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"/>
            <p:cNvSpPr/>
            <p:nvPr/>
          </p:nvSpPr>
          <p:spPr>
            <a:xfrm>
              <a:off x="4255920" y="352260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4255920" y="40892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4255920" y="4654440"/>
              <a:ext cx="584280" cy="517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0672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5008680" y="1779480"/>
              <a:ext cx="0" cy="348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1332000" y="1865160"/>
              <a:ext cx="27320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ЛАГОР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5008680" y="1871640"/>
              <a:ext cx="113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121200" y="2446200"/>
              <a:ext cx="9428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5008680" y="2440080"/>
              <a:ext cx="273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Д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5008680" y="3033720"/>
              <a:ext cx="2073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Д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5008680" y="3598920"/>
              <a:ext cx="2262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БР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2556000" y="41148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Л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5008680" y="4114800"/>
              <a:ext cx="75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2556000" y="4680000"/>
              <a:ext cx="1508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5008680" y="4680000"/>
              <a:ext cx="1412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21"/>
          <p:cNvSpPr/>
          <p:nvPr/>
        </p:nvSpPr>
        <p:spPr>
          <a:xfrm>
            <a:off x="4321080" y="1768320"/>
            <a:ext cx="3952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A238-3C70-46CC-BB52-CA96508C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0" y="69192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НАЧАЛЕ БЫЛО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3564000" y="549360"/>
            <a:ext cx="2808000" cy="2302920"/>
            <a:chOff x="3564000" y="549360"/>
            <a:chExt cx="2808000" cy="2302920"/>
          </a:xfrm>
        </p:grpSpPr>
        <p:sp>
          <p:nvSpPr>
            <p:cNvPr id="258" name="Oval 4"/>
            <p:cNvSpPr/>
            <p:nvPr/>
          </p:nvSpPr>
          <p:spPr>
            <a:xfrm>
              <a:off x="3839760" y="581040"/>
              <a:ext cx="2257560" cy="220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4029120" y="60948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3564000" y="1599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4190040" y="241200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5409720" y="240156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5874480" y="1477800"/>
              <a:ext cx="49752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5313960" y="555840"/>
              <a:ext cx="496800" cy="44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073400" y="595080"/>
              <a:ext cx="4402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604680" y="1559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424692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5363280" y="54936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"/>
            <p:cNvSpPr/>
            <p:nvPr/>
          </p:nvSpPr>
          <p:spPr>
            <a:xfrm>
              <a:off x="5902920" y="147780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5466240" y="2360520"/>
              <a:ext cx="4402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7"/>
            <p:cNvSpPr/>
            <p:nvPr/>
          </p:nvSpPr>
          <p:spPr>
            <a:xfrm>
              <a:off x="4226040" y="1019880"/>
              <a:ext cx="1487520" cy="137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8"/>
          <p:cNvSpPr/>
          <p:nvPr/>
        </p:nvSpPr>
        <p:spPr>
          <a:xfrm>
            <a:off x="179280" y="11592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Р    О 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179280" y="11592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755640" y="69228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179280" y="11592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755640" y="6922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3060720" y="115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179280" y="328464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179280" y="690480"/>
            <a:ext cx="5749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  Л  О  В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179280" y="2708280"/>
            <a:ext cx="302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П О Д А Р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3060720" y="277956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755640" y="27795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826920" y="83520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826920" y="1484280"/>
            <a:ext cx="223380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826920" y="2131920"/>
            <a:ext cx="2233800" cy="5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"/>
          <p:cNvSpPr/>
          <p:nvPr/>
        </p:nvSpPr>
        <p:spPr>
          <a:xfrm>
            <a:off x="6575400" y="37530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3"/>
          <p:cNvSpPr/>
          <p:nvPr/>
        </p:nvSpPr>
        <p:spPr>
          <a:xfrm>
            <a:off x="6589800" y="4616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6589800" y="41846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"/>
          <p:cNvSpPr/>
          <p:nvPr/>
        </p:nvSpPr>
        <p:spPr>
          <a:xfrm>
            <a:off x="6589800" y="50482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6"/>
          <p:cNvSpPr/>
          <p:nvPr/>
        </p:nvSpPr>
        <p:spPr>
          <a:xfrm>
            <a:off x="6589800" y="54817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"/>
          <p:cNvSpPr/>
          <p:nvPr/>
        </p:nvSpPr>
        <p:spPr>
          <a:xfrm>
            <a:off x="6589800" y="59133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8"/>
          <p:cNvSpPr/>
          <p:nvPr/>
        </p:nvSpPr>
        <p:spPr>
          <a:xfrm>
            <a:off x="644508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7164360" y="3716280"/>
            <a:ext cx="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4356000" y="371160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А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7164360" y="371628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2"/>
          <p:cNvSpPr/>
          <p:nvPr/>
        </p:nvSpPr>
        <p:spPr>
          <a:xfrm>
            <a:off x="5722920" y="4076640"/>
            <a:ext cx="72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7164360" y="4071960"/>
            <a:ext cx="208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7164360" y="4576680"/>
            <a:ext cx="158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7164360" y="5008680"/>
            <a:ext cx="172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6"/>
          <p:cNvSpPr/>
          <p:nvPr/>
        </p:nvSpPr>
        <p:spPr>
          <a:xfrm>
            <a:off x="5291280" y="5440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7164360" y="5440320"/>
            <a:ext cx="5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5291280" y="58723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7164360" y="58723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0"/>
          <p:cNvSpPr/>
          <p:nvPr/>
        </p:nvSpPr>
        <p:spPr>
          <a:xfrm>
            <a:off x="1895400" y="3541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1"/>
          <p:cNvSpPr/>
          <p:nvPr/>
        </p:nvSpPr>
        <p:spPr>
          <a:xfrm>
            <a:off x="1909800" y="440532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2"/>
          <p:cNvSpPr/>
          <p:nvPr/>
        </p:nvSpPr>
        <p:spPr>
          <a:xfrm>
            <a:off x="1909800" y="397368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3"/>
          <p:cNvSpPr/>
          <p:nvPr/>
        </p:nvSpPr>
        <p:spPr>
          <a:xfrm>
            <a:off x="1909800" y="483696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4"/>
          <p:cNvSpPr/>
          <p:nvPr/>
        </p:nvSpPr>
        <p:spPr>
          <a:xfrm>
            <a:off x="1909800" y="5270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5"/>
          <p:cNvSpPr/>
          <p:nvPr/>
        </p:nvSpPr>
        <p:spPr>
          <a:xfrm>
            <a:off x="1909800" y="570240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 flipH="1">
            <a:off x="1763280" y="3432240"/>
            <a:ext cx="3240" cy="3165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7"/>
          <p:cNvSpPr/>
          <p:nvPr/>
        </p:nvSpPr>
        <p:spPr>
          <a:xfrm>
            <a:off x="2484360" y="3359160"/>
            <a:ext cx="0" cy="3238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8"/>
          <p:cNvSpPr/>
          <p:nvPr/>
        </p:nvSpPr>
        <p:spPr>
          <a:xfrm>
            <a:off x="2484360" y="3505320"/>
            <a:ext cx="8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9"/>
          <p:cNvSpPr/>
          <p:nvPr/>
        </p:nvSpPr>
        <p:spPr>
          <a:xfrm>
            <a:off x="1332000" y="3933720"/>
            <a:ext cx="4316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0"/>
          <p:cNvSpPr/>
          <p:nvPr/>
        </p:nvSpPr>
        <p:spPr>
          <a:xfrm>
            <a:off x="2484360" y="3933720"/>
            <a:ext cx="574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1"/>
          <p:cNvSpPr/>
          <p:nvPr/>
        </p:nvSpPr>
        <p:spPr>
          <a:xfrm>
            <a:off x="2484360" y="436572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2484360" y="479736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1332000" y="52293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2484360" y="5229360"/>
            <a:ext cx="7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5"/>
          <p:cNvSpPr/>
          <p:nvPr/>
        </p:nvSpPr>
        <p:spPr>
          <a:xfrm>
            <a:off x="324000" y="5661000"/>
            <a:ext cx="14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ЕС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6"/>
          <p:cNvSpPr/>
          <p:nvPr/>
        </p:nvSpPr>
        <p:spPr>
          <a:xfrm>
            <a:off x="2484360" y="566100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67"/>
          <p:cNvSpPr/>
          <p:nvPr/>
        </p:nvSpPr>
        <p:spPr>
          <a:xfrm>
            <a:off x="1909800" y="6134040"/>
            <a:ext cx="446040" cy="3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8"/>
          <p:cNvSpPr/>
          <p:nvPr/>
        </p:nvSpPr>
        <p:spPr>
          <a:xfrm>
            <a:off x="2556000" y="6093000"/>
            <a:ext cx="15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9"/>
          <p:cNvSpPr/>
          <p:nvPr/>
        </p:nvSpPr>
        <p:spPr>
          <a:xfrm>
            <a:off x="611280" y="4365720"/>
            <a:ext cx="115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0"/>
          <p:cNvSpPr/>
          <p:nvPr/>
        </p:nvSpPr>
        <p:spPr>
          <a:xfrm>
            <a:off x="1332000" y="4757760"/>
            <a:ext cx="43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1"/>
          <p:cNvSpPr/>
          <p:nvPr/>
        </p:nvSpPr>
        <p:spPr>
          <a:xfrm>
            <a:off x="826920" y="76500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2"/>
          <p:cNvSpPr/>
          <p:nvPr/>
        </p:nvSpPr>
        <p:spPr>
          <a:xfrm>
            <a:off x="971640" y="141300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3"/>
          <p:cNvSpPr/>
          <p:nvPr/>
        </p:nvSpPr>
        <p:spPr>
          <a:xfrm>
            <a:off x="6588000" y="3716280"/>
            <a:ext cx="5749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4"/>
          <p:cNvSpPr/>
          <p:nvPr/>
        </p:nvSpPr>
        <p:spPr>
          <a:xfrm>
            <a:off x="4356000" y="162864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D1E-91E9-4B4F-91D3-10EF2D3D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1692360" y="1017720"/>
            <a:ext cx="5506920" cy="4859280"/>
            <a:chOff x="1692360" y="1017720"/>
            <a:chExt cx="5506920" cy="4859280"/>
          </a:xfrm>
        </p:grpSpPr>
        <p:sp>
          <p:nvSpPr>
            <p:cNvPr id="331" name="Oval 3"/>
            <p:cNvSpPr/>
            <p:nvPr/>
          </p:nvSpPr>
          <p:spPr>
            <a:xfrm>
              <a:off x="4049640" y="1292400"/>
              <a:ext cx="669960" cy="59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>
              <a:off x="4071960" y="25876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>
              <a:off x="4071960" y="19400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>
              <a:off x="4071960" y="3235320"/>
              <a:ext cx="669960" cy="593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4071960" y="388620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4071960" y="453384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 flipH="1">
              <a:off x="3852720" y="1127160"/>
              <a:ext cx="5040" cy="4749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933800" y="1017720"/>
              <a:ext cx="0" cy="4859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4933800" y="1413000"/>
              <a:ext cx="1295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Д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205080" y="20224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4933800" y="2055960"/>
              <a:ext cx="8622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4"/>
            <p:cNvSpPr/>
            <p:nvPr/>
          </p:nvSpPr>
          <p:spPr>
            <a:xfrm>
              <a:off x="4933800" y="2703600"/>
              <a:ext cx="6480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4933800" y="3351240"/>
              <a:ext cx="648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3205080" y="3967200"/>
              <a:ext cx="647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4933800" y="4000680"/>
              <a:ext cx="1079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1692360" y="4614840"/>
              <a:ext cx="21603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ЕС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4933800" y="4648320"/>
              <a:ext cx="16192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Р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"/>
            <p:cNvSpPr/>
            <p:nvPr/>
          </p:nvSpPr>
          <p:spPr>
            <a:xfrm>
              <a:off x="4071960" y="5181480"/>
              <a:ext cx="669960" cy="592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932360" y="5186520"/>
              <a:ext cx="2266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СМ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2124000" y="2670120"/>
              <a:ext cx="1728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Ы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3205080" y="3259080"/>
              <a:ext cx="6476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9-08-30T07:58:03Z</dcterms:modified>
  <cp:revision>134</cp:revision>
  <dc:subject/>
  <dc:title>Slide 1</dc:title>
</cp:coreProperties>
</file>