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FDD9-05F2-4E6C-81E8-77954C305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C705-D2E8-4736-BF84-5F56C8C85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4939-E892-4638-888E-0394ED4BE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5EDD-C920-47D8-9E54-49F0A2DDA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033D-6EB7-47BE-9994-5F4EA018B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BA51-3DC6-4409-A1A6-894968F5B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7136-A5F8-4E3A-ADEB-524E7167A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C9C-EE82-47F7-B29F-245DA35D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8D35-7EEC-404D-8C36-CAA1C825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C06-45DE-41D0-9832-976A8327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D84-C611-4C6E-9D62-1B61E4ED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4D47-7908-4C0E-A717-0F97059E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750-9CD1-427B-B169-B8EA9AD0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F85C-4973-4211-96A2-A76989FC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0AFC-8E9F-4755-96B8-0EDB2F3C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01C-FD89-4196-A86D-0C7260E7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33B5-EDB9-4B74-A7CF-A9B79057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CA9-1CA3-4F62-8A6C-BFA1A800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E9F-030B-47DC-9930-A87721BB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6DD4-4836-4223-B904-CEDE6DF9A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трети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трети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«Он уже живет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images.jpeg"/>
          <p:cNvPicPr/>
          <p:nvPr/>
        </p:nvPicPr>
        <p:blipFill>
          <a:blip r:embed="rId1"/>
          <a:stretch/>
        </p:blipFill>
        <p:spPr>
          <a:xfrm>
            <a:off x="7238880" y="457200"/>
            <a:ext cx="1524240" cy="2190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200px-Janusz_Korczak.PNG"/>
          <p:cNvPicPr/>
          <p:nvPr/>
        </p:nvPicPr>
        <p:blipFill>
          <a:blip r:embed="rId2"/>
          <a:stretch/>
        </p:blipFill>
        <p:spPr>
          <a:xfrm>
            <a:off x="6172200" y="4191120"/>
            <a:ext cx="1536840" cy="2441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m_26753.jpg"/>
          <p:cNvPicPr/>
          <p:nvPr/>
        </p:nvPicPr>
        <p:blipFill>
          <a:blip r:embed="rId3"/>
          <a:stretch/>
        </p:blipFill>
        <p:spPr>
          <a:xfrm>
            <a:off x="380880" y="380880"/>
            <a:ext cx="1878120" cy="2306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Johann_Heinrich_Pestalozzi.jpg"/>
          <p:cNvPicPr/>
          <p:nvPr/>
        </p:nvPicPr>
        <p:blipFill>
          <a:blip r:embed="rId4"/>
          <a:stretch/>
        </p:blipFill>
        <p:spPr>
          <a:xfrm>
            <a:off x="1295280" y="4210200"/>
            <a:ext cx="1752840" cy="2342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 для размышл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" y="907920"/>
            <a:ext cx="82296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Согласны ли Вы с утверждением: «Воспитание происходит только в условиях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уховной общ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? А как Ваша практ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огласны ли Вы с утверждение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ебенок не готовится к жизни,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он уже жив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? А как Ваша практ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ужно ли говорить детям о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мысле жиз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 ли Вы детей смыслу жизни? Что есть для Вас смысл жиз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Будут ли Ваши ученики учиться успешнее,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если прекратить ставить им отмет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сли для анали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Жизнь – это шанс, не упусти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красота, удивляйся 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мечта, осуществи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долг, исполни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игра, так игр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любовь, так люб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тайна, разгадай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трагедия, выдержи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приключение, решись на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жизнь, спаси е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– это счастье, сотвори его 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ть сто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уничтожай свою жизнь!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Мать Тере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sosceles Triangle 3"/>
          <p:cNvSpPr/>
          <p:nvPr/>
        </p:nvSpPr>
        <p:spPr>
          <a:xfrm rot="10800000">
            <a:off x="2438280" y="2590920"/>
            <a:ext cx="4114800" cy="3504960"/>
          </a:xfrm>
          <a:prstGeom prst="triangle">
            <a:avLst>
              <a:gd name="adj" fmla="val 50000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sosceles Triangle 7"/>
          <p:cNvSpPr/>
          <p:nvPr/>
        </p:nvSpPr>
        <p:spPr>
          <a:xfrm>
            <a:off x="2438280" y="1447920"/>
            <a:ext cx="4114800" cy="3504960"/>
          </a:xfrm>
          <a:prstGeom prst="triangle">
            <a:avLst>
              <a:gd name="adj" fmla="val 50000"/>
            </a:avLst>
          </a:prstGeom>
          <a:solidFill>
            <a:srgbClr val="0000ff">
              <a:alpha val="40000"/>
            </a:srgbClr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2"/>
          <p:cNvGrpSpPr/>
          <p:nvPr/>
        </p:nvGrpSpPr>
        <p:grpSpPr>
          <a:xfrm>
            <a:off x="3276720" y="2654280"/>
            <a:ext cx="2355840" cy="2298600"/>
            <a:chOff x="3276720" y="2654280"/>
            <a:chExt cx="2355840" cy="2298600"/>
          </a:xfrm>
        </p:grpSpPr>
        <p:sp>
          <p:nvSpPr>
            <p:cNvPr id="65" name="Oval 8"/>
            <p:cNvSpPr/>
            <p:nvPr/>
          </p:nvSpPr>
          <p:spPr>
            <a:xfrm>
              <a:off x="3276720" y="2654280"/>
              <a:ext cx="2355840" cy="22986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9"/>
            <p:cNvSpPr/>
            <p:nvPr/>
          </p:nvSpPr>
          <p:spPr>
            <a:xfrm>
              <a:off x="4295880" y="2914560"/>
              <a:ext cx="317520" cy="3189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>
              <a:off x="3722760" y="4060800"/>
              <a:ext cx="317520" cy="3189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1"/>
            <p:cNvSpPr/>
            <p:nvPr/>
          </p:nvSpPr>
          <p:spPr>
            <a:xfrm>
              <a:off x="4932720" y="4060800"/>
              <a:ext cx="317520" cy="3189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9" descr="Opyat_dvoyka.jpg"/>
          <p:cNvPicPr/>
          <p:nvPr/>
        </p:nvPicPr>
        <p:blipFill>
          <a:blip r:embed="rId1"/>
          <a:stretch/>
        </p:blipFill>
        <p:spPr>
          <a:xfrm>
            <a:off x="1508040" y="0"/>
            <a:ext cx="612792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Урок в сельской школе.jpeg"/>
          <p:cNvPicPr/>
          <p:nvPr/>
        </p:nvPicPr>
        <p:blipFill>
          <a:blip r:embed="rId1"/>
          <a:stretch/>
        </p:blipFill>
        <p:spPr>
          <a:xfrm>
            <a:off x="1908000" y="0"/>
            <a:ext cx="45356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0:56:26Z</dcterms:created>
  <dc:creator>paata</dc:creator>
  <dc:description/>
  <dc:language>en-US</dc:language>
  <cp:lastModifiedBy>Paata Amonashvili</cp:lastModifiedBy>
  <dcterms:modified xsi:type="dcterms:W3CDTF">2014-01-20T16:35:10Z</dcterms:modified>
  <cp:revision>122</cp:revision>
  <dc:subject/>
  <dc:title>Slide 1</dc:title>
</cp:coreProperties>
</file>