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7E44-38BD-4E7A-9CAE-0080D565F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27C9-61F1-4855-8CF6-FCC438A8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CEC6-0A99-4354-BB2E-9BC6AE06F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A0F4-0F7D-47DD-9F7B-055C98503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9E27-146F-4808-AD7D-AABD4DAE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D413-7C56-41C4-9090-850A67C7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6110-4458-4AA7-B4F5-F08FC786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8427-060D-4B31-B8E9-2269EE7E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2D06-B5B7-4E22-8563-E4E34D1C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41F4-CB22-4A0B-BE6D-41A37849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E6AA-02D7-4BAF-B13E-4C6AB154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5FB7-7287-4321-A14F-25CFD5F2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f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080D-81AC-438B-8D91-BE1FE9D2B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f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УРОК: Сил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f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УРОК: Сил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1873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66"/>
                </a:solidFill>
                <a:uFillTx/>
                <a:latin typeface="Arial"/>
              </a:rPr>
              <a:t>Иде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Заговор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чтоб я теб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крат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2997360"/>
            <a:ext cx="1368360" cy="21564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732720" y="1700280"/>
            <a:ext cx="216036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66"/>
                </a:solidFill>
                <a:uFillTx/>
                <a:latin typeface="Arial"/>
              </a:rPr>
              <a:t>Лейтмоти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Я верю в сил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пламен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.А.Сухомли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71640" y="1628640"/>
            <a:ext cx="396108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Построение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1. Басня – её особен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2. Слушаем басн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3. Обсуждаем басн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4. Случаи из жиз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5. Мы познаем мудр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6. Творческое письм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0066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cc0066"/>
                </a:solidFill>
                <a:latin typeface="Arial"/>
              </a:rPr>
              <a:t>Наставления самому себ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7. Чем я обогатился на уро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f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Басня – её особ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124000" y="1628640"/>
            <a:ext cx="468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Кратк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Мора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Персона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(животные, птицы, люд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f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Слушаем басн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2016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Мы вдумчив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слуша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1197000"/>
            <a:ext cx="2016000" cy="7920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00360" y="1341360"/>
            <a:ext cx="3672000" cy="50328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2133720"/>
            <a:ext cx="8496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Подружились мужик и медведь. Пригласил мужик медведя к себе в гости. Прощаясь, медведь поцеловал мужика, а заодно, по его просьбе, и жену мужика, Почуяв вонь медведя, женщина выплюнула и сказа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Не по душе мне вонючий гос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Прошло время. Мужик пошел в лес. Он навестил медведя, захватив с собой топор, чтобы нарубить дров на зиму, Друзья обменялись любезностями, а потом медведь стал требов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- Ударь меня топором по голове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Мужик отказывался. Медведь настаивал, упорствовал. Под конец мужик ударил медведя топором по голове и разбил ему голов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Медведь побрёл в лес, а мужик – домой. Спустя месяц они встретилис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У медведя рана зажила. И он сказа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- Брат мой, разбитая топором голова зажила, а сердце, раненое языком твоей жены, -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11280" y="6165720"/>
            <a:ext cx="48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0066"/>
                </a:solidFill>
                <a:uFillTx/>
                <a:latin typeface="Arial"/>
              </a:rPr>
              <a:t>Предложите свое название бас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f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Обсуждаем басн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40000" y="1557360"/>
            <a:ext cx="4402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Вопросы и мне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случаи из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32130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Вопросы учеников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3789360"/>
            <a:ext cx="7490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Объяснил ли мужик своей жене, какой ужасный поступ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она совершил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Почему медведь после оскорбления не нанес жене ответ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ный уда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Почему сердечная рана заживает так мучительно, п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равнению  с телесной ран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f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Мы познаем мудр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456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Язык мой – враг м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прежде           рыщ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беду ищ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92360" y="2060640"/>
            <a:ext cx="720720" cy="216000"/>
          </a:xfrm>
          <a:prstGeom prst="rect">
            <a:avLst/>
          </a:prstGeom>
          <a:noFill/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3068640"/>
            <a:ext cx="367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Палкой можно бо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поранить тело, а зл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сло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…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88000" y="141300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Леопард береж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свои когти, мудр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человек    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56360" y="2276640"/>
            <a:ext cx="503280" cy="215640"/>
          </a:xfrm>
          <a:prstGeom prst="rect">
            <a:avLst/>
          </a:prstGeom>
          <a:noFill/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04000" y="2276640"/>
            <a:ext cx="720720" cy="217440"/>
          </a:xfrm>
          <a:prstGeom prst="rect">
            <a:avLst/>
          </a:prstGeom>
          <a:noFill/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88000" y="292428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Полная бутылка 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плещется, наполови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пустая         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84720" y="3789360"/>
            <a:ext cx="1657440" cy="216000"/>
          </a:xfrm>
          <a:prstGeom prst="rect">
            <a:avLst/>
          </a:prstGeom>
          <a:noFill/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88000" y="422100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У короткого ума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                              </a:t>
            </a: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32360" y="4724280"/>
            <a:ext cx="1274760" cy="216000"/>
          </a:xfrm>
          <a:prstGeom prst="rect">
            <a:avLst/>
          </a:prstGeom>
          <a:noFill/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72360" y="4724280"/>
            <a:ext cx="914400" cy="216000"/>
          </a:xfrm>
          <a:prstGeom prst="rect">
            <a:avLst/>
          </a:prstGeom>
          <a:noFill/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08000" y="5427720"/>
            <a:ext cx="51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Заполните пустые кле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Прокомментируйте мудр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f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Творческое письмо</a:t>
            </a:r>
            <a:br>
              <a:rPr sz="4000"/>
            </a:b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Наставления самому се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68000" y="1628280"/>
            <a:ext cx="49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Моя речь должна бы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11280" y="2276640"/>
            <a:ext cx="4464360" cy="288720"/>
          </a:xfrm>
          <a:prstGeom prst="rect">
            <a:avLst/>
          </a:prstGeom>
          <a:noFill/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11280" y="2852640"/>
            <a:ext cx="4464360" cy="289080"/>
          </a:xfrm>
          <a:prstGeom prst="rect">
            <a:avLst/>
          </a:prstGeom>
          <a:noFill/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11280" y="3429000"/>
            <a:ext cx="4464360" cy="289080"/>
          </a:xfrm>
          <a:prstGeom prst="rect">
            <a:avLst/>
          </a:prstGeom>
          <a:noFill/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1280" y="4005360"/>
            <a:ext cx="4464360" cy="288720"/>
          </a:xfrm>
          <a:prstGeom prst="rect">
            <a:avLst/>
          </a:prstGeom>
          <a:noFill/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11280" y="4581360"/>
            <a:ext cx="4464360" cy="289080"/>
          </a:xfrm>
          <a:prstGeom prst="rect">
            <a:avLst/>
          </a:prstGeom>
          <a:noFill/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11280" y="5734080"/>
            <a:ext cx="4464360" cy="288720"/>
          </a:xfrm>
          <a:prstGeom prst="rect">
            <a:avLst/>
          </a:prstGeom>
          <a:noFill/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11280" y="5157720"/>
            <a:ext cx="4464360" cy="289080"/>
          </a:xfrm>
          <a:prstGeom prst="rect">
            <a:avLst/>
          </a:prstGeom>
          <a:noFill/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11280" y="595008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……………………………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11280" y="6165720"/>
            <a:ext cx="44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……………………………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f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Чем меня обогатил урок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«Сила Слова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38275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Заговори, чтоб я тебя увид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к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91080" y="1557360"/>
            <a:ext cx="430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Я верю в силу пламенного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.А.Сухомли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2565360"/>
            <a:ext cx="309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Язык мой – враг мо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прежде  ума  рыщ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беду ищ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92720" y="2565360"/>
            <a:ext cx="273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Леопард  береж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свои когти, мудр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человек  - свой язы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68360" y="5300640"/>
            <a:ext cx="44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У короткого ума – длинный язы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3860640"/>
            <a:ext cx="331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Палкой можно бо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поранить тело, а з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слова проникают в душ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862440"/>
            <a:ext cx="331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Полная бутылка 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плещется, наполов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пустая - бульк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f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Спасибо, ребя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2960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Пусть будет ваша реч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красивой, доброй 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отзывчив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9T14:47:08Z</dcterms:created>
  <dc:creator>Vladimir</dc:creator>
  <dc:description/>
  <dc:language>en-US</dc:language>
  <cp:lastModifiedBy>Vladimir</cp:lastModifiedBy>
  <dcterms:modified xsi:type="dcterms:W3CDTF">2008-11-29T19:52:30Z</dcterms:modified>
  <cp:revision>11</cp:revision>
  <dc:subject/>
  <dc:title>УРОК: Сила Слова</dc:title>
</cp:coreProperties>
</file>