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A8A9-ABC6-4A8C-B046-D146E07EC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87A0-C9B5-416A-BA00-7C3CBA093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D1CD-4982-4D46-90E1-816A4546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85FF-2FBA-4CAC-8581-58E99038F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76AF-1D33-42EE-BE5E-1F20C435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E8E7-5909-4B5C-A634-BE4C5EE5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131D-FD00-4F2D-9705-EA2358C0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E12B-AEFD-4B48-8B0F-C52DC021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B2DF-03CC-4709-BE4F-9482A2F4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3A2A-D409-44A7-B456-F651CD9DD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BF65-A250-4833-BA7B-C1CACE77A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AF65-188E-4F9E-9075-14BD962C2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D375-44F1-456F-BFAB-3F72C8AF7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0BB0-9D67-4B59-A4BE-45ACFB4D4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C293-F6EE-4854-9D56-B6673CCAA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82E1-97DD-497E-B37D-C6576B971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6E39-AB1E-49B2-9B2B-D7B69F9D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20CB-C72B-4559-B765-3F9E3E46D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EBDB-4F19-4B1F-A30C-1ADB3728C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83CD-3154-41EF-A07F-F57711D8B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2F91-3D1E-4D46-8A4E-04CEB2242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27F0-DC3B-4C67-B33B-99D9CFB13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856D-337C-494A-9C83-12750D5BB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0B70-EB74-4FA9-B86A-27C83455C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7FDF-52C4-4712-8607-26801823F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2215-2351-4747-BF12-97DA842DF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72AB-4256-43F6-8917-F32B4485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80C-0258-4559-A0BE-711799C3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F1C-A1F5-4ABD-8708-0B2936EE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6FD-772F-4CDC-95D8-30994AA9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87F-BA8E-4D95-9A84-A6B89CFD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2E2-3F20-49B7-BFE0-592E732A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72D-4745-4134-A9D9-561C9FEF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974-467F-45BB-A942-5068A5E1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7F8-FA4D-4515-82F0-5215A59A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596-FEF9-4DFF-A46D-C4E47C4B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710-770C-474D-86D2-6D5472F5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F16-7A95-4898-AF75-69F6D4B6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E13-D6EC-476E-B7F8-84E99E64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EE3A-AB59-4DAF-89DF-A75A9B113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перв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i.jpeg"/>
          <p:cNvPicPr/>
          <p:nvPr/>
        </p:nvPicPr>
        <p:blipFill>
          <a:blip r:embed="rId1"/>
          <a:stretch/>
        </p:blipFill>
        <p:spPr>
          <a:xfrm>
            <a:off x="6178680" y="2629080"/>
            <a:ext cx="2127240" cy="377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kvintilian.gif"/>
          <p:cNvPicPr/>
          <p:nvPr/>
        </p:nvPicPr>
        <p:blipFill>
          <a:blip r:embed="rId2"/>
          <a:stretch/>
        </p:blipFill>
        <p:spPr>
          <a:xfrm>
            <a:off x="457200" y="2666880"/>
            <a:ext cx="4191120" cy="358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510552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Бессмертие Ду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его устремленность к совершенств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876920" y="5105520"/>
            <a:ext cx="426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емная жизнь – отрезок пути совершен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510552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Бессмертие Ду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его устремленность к совершенств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876920" y="5105520"/>
            <a:ext cx="426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Земная жизнь – отрезок пути совершен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2895480" y="2354400"/>
            <a:ext cx="2819520" cy="27511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sosceles Triangle 3"/>
          <p:cNvSpPr/>
          <p:nvPr/>
        </p:nvSpPr>
        <p:spPr>
          <a:xfrm>
            <a:off x="2438280" y="220968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 rot="17980800">
            <a:off x="1223280" y="3588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Я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уховная суть ребе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sosceles Triangle 3"/>
          <p:cNvSpPr/>
          <p:nvPr/>
        </p:nvSpPr>
        <p:spPr>
          <a:xfrm>
            <a:off x="2438280" y="220968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 rot="17980800">
            <a:off x="1223280" y="3588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Я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 rot="3564000">
            <a:off x="3853440" y="374040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Ми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уховная суть ребе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sosceles Triangle 3"/>
          <p:cNvSpPr/>
          <p:nvPr/>
        </p:nvSpPr>
        <p:spPr>
          <a:xfrm>
            <a:off x="2438280" y="220968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 rot="17980800">
            <a:off x="1223280" y="3588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Я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 rot="3564000">
            <a:off x="3853440" y="374040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Ми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514600" y="571500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Энергия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уховная суть ребе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3"/>
          <p:cNvSpPr/>
          <p:nvPr/>
        </p:nvSpPr>
        <p:spPr>
          <a:xfrm rot="10800000">
            <a:off x="2438280" y="220932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 rot="3558000">
            <a:off x="1295280" y="3839760"/>
            <a:ext cx="392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Природа в ребен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Isosceles Triangle 3"/>
          <p:cNvSpPr/>
          <p:nvPr/>
        </p:nvSpPr>
        <p:spPr>
          <a:xfrm rot="10800000">
            <a:off x="2438280" y="220932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 rot="3558000">
            <a:off x="1295280" y="3839760"/>
            <a:ext cx="392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 rot="18030000">
            <a:off x="3764520" y="393084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Взро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Природа в ребен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sosceles Triangle 3"/>
          <p:cNvSpPr/>
          <p:nvPr/>
        </p:nvSpPr>
        <p:spPr>
          <a:xfrm rot="10800000">
            <a:off x="2438280" y="2209320"/>
            <a:ext cx="4114800" cy="3505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 rot="3558000">
            <a:off x="1295280" y="3839760"/>
            <a:ext cx="392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 rot="18030000">
            <a:off x="3764520" y="393084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Взро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514600" y="1752480"/>
            <a:ext cx="39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Своб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Природа в ребен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ущность ребенка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Isosceles Triangle 3"/>
          <p:cNvSpPr/>
          <p:nvPr/>
        </p:nvSpPr>
        <p:spPr>
          <a:xfrm rot="10800000">
            <a:off x="2438280" y="2590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Isosceles Triangle 7"/>
          <p:cNvSpPr/>
          <p:nvPr/>
        </p:nvSpPr>
        <p:spPr>
          <a:xfrm>
            <a:off x="2438280" y="1447920"/>
            <a:ext cx="4114800" cy="3504960"/>
          </a:xfrm>
          <a:prstGeom prst="triangle">
            <a:avLst>
              <a:gd name="adj" fmla="val 50000"/>
            </a:avLst>
          </a:prstGeom>
          <a:solidFill>
            <a:srgbClr val="0000ff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507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3276720" y="2654280"/>
            <a:ext cx="2355840" cy="2298600"/>
            <a:chOff x="3276720" y="2654280"/>
            <a:chExt cx="2355840" cy="2298600"/>
          </a:xfrm>
        </p:grpSpPr>
        <p:sp>
          <p:nvSpPr>
            <p:cNvPr id="153" name="Oval 8"/>
            <p:cNvSpPr/>
            <p:nvPr/>
          </p:nvSpPr>
          <p:spPr>
            <a:xfrm>
              <a:off x="3276720" y="2654280"/>
              <a:ext cx="2355840" cy="22986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4295880" y="291456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0"/>
            <p:cNvSpPr/>
            <p:nvPr/>
          </p:nvSpPr>
          <p:spPr>
            <a:xfrm>
              <a:off x="372276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>
              <a:off x="4932720" y="4060800"/>
              <a:ext cx="317520" cy="3189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entagon 13"/>
          <p:cNvSpPr/>
          <p:nvPr/>
        </p:nvSpPr>
        <p:spPr>
          <a:xfrm>
            <a:off x="533520" y="91440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457200" y="91440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вездное небо: Квинтилиан, Коменский, Корчак, Сухомлински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5"/>
          <p:cNvSpPr/>
          <p:nvPr/>
        </p:nvSpPr>
        <p:spPr>
          <a:xfrm>
            <a:off x="533520" y="2666880"/>
            <a:ext cx="8229600" cy="12956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57200" y="2666880"/>
            <a:ext cx="7696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тодическая служба: Управление, Норма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entagon 17"/>
          <p:cNvSpPr/>
          <p:nvPr/>
        </p:nvSpPr>
        <p:spPr>
          <a:xfrm>
            <a:off x="533520" y="441972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57200" y="44197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кольная жизнь,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ень первы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Arial"/>
              </a:rPr>
              <a:t>Наша душа небесного происхожд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i.jpeg"/>
          <p:cNvPicPr/>
          <p:nvPr/>
        </p:nvPicPr>
        <p:blipFill>
          <a:blip r:embed="rId1"/>
          <a:stretch/>
        </p:blipFill>
        <p:spPr>
          <a:xfrm>
            <a:off x="7556400" y="3886200"/>
            <a:ext cx="1435320" cy="2546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-457200" y="922032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-1135080" y="944892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entagon 13"/>
          <p:cNvSpPr/>
          <p:nvPr/>
        </p:nvSpPr>
        <p:spPr>
          <a:xfrm>
            <a:off x="533520" y="91440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457200" y="91440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вездное небо: Квинтилиан, Коменский, Корчак, Сухомлински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entagon 15"/>
          <p:cNvSpPr/>
          <p:nvPr/>
        </p:nvSpPr>
        <p:spPr>
          <a:xfrm>
            <a:off x="533520" y="2666880"/>
            <a:ext cx="8229600" cy="12956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57200" y="2666880"/>
            <a:ext cx="7696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тодическая служба: Управление, Норма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entagon 17"/>
          <p:cNvSpPr/>
          <p:nvPr/>
        </p:nvSpPr>
        <p:spPr>
          <a:xfrm>
            <a:off x="533520" y="441972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457200" y="44197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кольная жизнь,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loud 11"/>
          <p:cNvSpPr/>
          <p:nvPr/>
        </p:nvSpPr>
        <p:spPr>
          <a:xfrm>
            <a:off x="533520" y="2133720"/>
            <a:ext cx="121896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loud 12"/>
          <p:cNvSpPr/>
          <p:nvPr/>
        </p:nvSpPr>
        <p:spPr>
          <a:xfrm>
            <a:off x="1905120" y="2133720"/>
            <a:ext cx="121896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loud 19"/>
          <p:cNvSpPr/>
          <p:nvPr/>
        </p:nvSpPr>
        <p:spPr>
          <a:xfrm>
            <a:off x="3276720" y="2133720"/>
            <a:ext cx="121896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loud 20"/>
          <p:cNvSpPr/>
          <p:nvPr/>
        </p:nvSpPr>
        <p:spPr>
          <a:xfrm>
            <a:off x="4572000" y="2133720"/>
            <a:ext cx="121932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loud 21"/>
          <p:cNvSpPr/>
          <p:nvPr/>
        </p:nvSpPr>
        <p:spPr>
          <a:xfrm>
            <a:off x="5943600" y="2133720"/>
            <a:ext cx="121932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wn Arrow 22"/>
          <p:cNvSpPr/>
          <p:nvPr/>
        </p:nvSpPr>
        <p:spPr>
          <a:xfrm>
            <a:off x="13716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own Arrow 23"/>
          <p:cNvSpPr/>
          <p:nvPr/>
        </p:nvSpPr>
        <p:spPr>
          <a:xfrm>
            <a:off x="2209680" y="3809880"/>
            <a:ext cx="60984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n Arrow 24"/>
          <p:cNvSpPr/>
          <p:nvPr/>
        </p:nvSpPr>
        <p:spPr>
          <a:xfrm>
            <a:off x="3124080" y="3809880"/>
            <a:ext cx="60984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own Arrow 25"/>
          <p:cNvSpPr/>
          <p:nvPr/>
        </p:nvSpPr>
        <p:spPr>
          <a:xfrm>
            <a:off x="396252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own Arrow 26"/>
          <p:cNvSpPr/>
          <p:nvPr/>
        </p:nvSpPr>
        <p:spPr>
          <a:xfrm>
            <a:off x="48006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own Arrow 27"/>
          <p:cNvSpPr/>
          <p:nvPr/>
        </p:nvSpPr>
        <p:spPr>
          <a:xfrm>
            <a:off x="57150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own Arrow 28"/>
          <p:cNvSpPr/>
          <p:nvPr/>
        </p:nvSpPr>
        <p:spPr>
          <a:xfrm>
            <a:off x="647712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own Arrow 29"/>
          <p:cNvSpPr/>
          <p:nvPr/>
        </p:nvSpPr>
        <p:spPr>
          <a:xfrm>
            <a:off x="7315200" y="3809880"/>
            <a:ext cx="609480" cy="7621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Arrow 30"/>
          <p:cNvSpPr/>
          <p:nvPr/>
        </p:nvSpPr>
        <p:spPr>
          <a:xfrm>
            <a:off x="609480" y="3809880"/>
            <a:ext cx="60984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loud 31"/>
          <p:cNvSpPr/>
          <p:nvPr/>
        </p:nvSpPr>
        <p:spPr>
          <a:xfrm>
            <a:off x="7315200" y="2133720"/>
            <a:ext cx="1219320" cy="609480"/>
          </a:xfrm>
          <a:prstGeom prst="pie">
            <a:avLst/>
          </a:prstGeom>
          <a:solidFill>
            <a:srgbClr val="00009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entagon 13"/>
          <p:cNvSpPr/>
          <p:nvPr/>
        </p:nvSpPr>
        <p:spPr>
          <a:xfrm>
            <a:off x="533520" y="91440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91440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вездное небо: Квинтилиан, Коменский, Корчак, Сухомлински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entagon 17"/>
          <p:cNvSpPr/>
          <p:nvPr/>
        </p:nvSpPr>
        <p:spPr>
          <a:xfrm>
            <a:off x="533520" y="4419720"/>
            <a:ext cx="8229600" cy="12952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0" y="0"/>
                </a:lnTo>
                <a:lnTo>
                  <a:pt x="21600" y="10800"/>
                </a:lnTo>
                <a:lnTo>
                  <a:pt x="19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7200" y="44197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кольная жизнь,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ight Arrow 8"/>
          <p:cNvSpPr/>
          <p:nvPr/>
        </p:nvSpPr>
        <p:spPr>
          <a:xfrm rot="3893400">
            <a:off x="690120" y="321804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Arrow 9"/>
          <p:cNvSpPr/>
          <p:nvPr/>
        </p:nvSpPr>
        <p:spPr>
          <a:xfrm rot="17598000">
            <a:off x="690480" y="319896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Arrow 12"/>
          <p:cNvSpPr/>
          <p:nvPr/>
        </p:nvSpPr>
        <p:spPr>
          <a:xfrm rot="3893400">
            <a:off x="2807640" y="321804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Arrow 19"/>
          <p:cNvSpPr/>
          <p:nvPr/>
        </p:nvSpPr>
        <p:spPr>
          <a:xfrm rot="17598000">
            <a:off x="2808000" y="319896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ight Arrow 20"/>
          <p:cNvSpPr/>
          <p:nvPr/>
        </p:nvSpPr>
        <p:spPr>
          <a:xfrm rot="3893400">
            <a:off x="4865040" y="321804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ight Arrow 21"/>
          <p:cNvSpPr/>
          <p:nvPr/>
        </p:nvSpPr>
        <p:spPr>
          <a:xfrm rot="17598000">
            <a:off x="4865400" y="3198960"/>
            <a:ext cx="2928960" cy="46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Школа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25909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61645"/>
                </a:solidFill>
                <a:latin typeface="Arial"/>
              </a:rPr>
              <a:t>Лат. </a:t>
            </a:r>
            <a:r>
              <a:rPr b="0" lang="en-US" sz="6000" spc="-1" strike="noStrike">
                <a:solidFill>
                  <a:srgbClr val="161645"/>
                </a:solidFill>
                <a:latin typeface="Arial"/>
              </a:rPr>
              <a:t>SK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495288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Лестница духовного восхожд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hevron 4"/>
          <p:cNvSpPr/>
          <p:nvPr/>
        </p:nvSpPr>
        <p:spPr>
          <a:xfrm rot="5400000">
            <a:off x="4038480" y="1981080"/>
            <a:ext cx="1067040" cy="6098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lnTo>
                  <a:pt x="6171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qual 5"/>
          <p:cNvSpPr/>
          <p:nvPr/>
        </p:nvSpPr>
        <p:spPr>
          <a:xfrm>
            <a:off x="4038480" y="3962520"/>
            <a:ext cx="990720" cy="761760"/>
          </a:xfrm>
          <a:prstGeom prst="pi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9907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ИТ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3124080"/>
            <a:ext cx="9144000" cy="18288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итель,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еник,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ение, об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Ч</a:t>
            </a: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ение, и т.д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 = Ура = Аура, Огонь, Свет, Логос, Жизнь, Мудрость, Бо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21337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 = Чело = Душа, Созн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4495680"/>
            <a:ext cx="9144000" cy="17528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уша, носитель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21337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-ОС-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4495680"/>
            <a:ext cx="9144000" cy="175284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итание Духовной О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ро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276720" y="2590920"/>
            <a:ext cx="25146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61645"/>
                </a:solidFill>
                <a:latin typeface="Arial"/>
              </a:rPr>
              <a:t>У+Р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51055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рок = основа жизни, модель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hevron 4"/>
          <p:cNvSpPr/>
          <p:nvPr/>
        </p:nvSpPr>
        <p:spPr>
          <a:xfrm rot="5400000">
            <a:off x="4038480" y="1981080"/>
            <a:ext cx="1067040" cy="6098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lnTo>
                  <a:pt x="6171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qual 5"/>
          <p:cNvSpPr/>
          <p:nvPr/>
        </p:nvSpPr>
        <p:spPr>
          <a:xfrm>
            <a:off x="4038480" y="3962520"/>
            <a:ext cx="990720" cy="761760"/>
          </a:xfrm>
          <a:prstGeom prst="pi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5486400" y="3733920"/>
            <a:ext cx="3657600" cy="9144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45"/>
                </a:solidFill>
                <a:latin typeface="Arial"/>
              </a:rPr>
              <a:t>У=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45"/>
                </a:solidFill>
                <a:latin typeface="Arial"/>
              </a:rPr>
              <a:t>Рок=удар судь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281952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ума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2362320"/>
            <a:ext cx="9144000" cy="13716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an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= смертный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4267080"/>
            <a:ext cx="9144000" cy="23623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УМАННЫЙ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мертный человек, ищущий в себе бессмертие, связь с высшим; человек, познающий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00400" y="0"/>
            <a:ext cx="281952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u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6095880" y="0"/>
            <a:ext cx="281952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u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hevron 8"/>
          <p:cNvSpPr/>
          <p:nvPr/>
        </p:nvSpPr>
        <p:spPr>
          <a:xfrm>
            <a:off x="2743200" y="152280"/>
            <a:ext cx="990720" cy="533520"/>
          </a:xfrm>
          <a:custGeom>
            <a:avLst/>
            <a:gdLst>
              <a:gd name="textAreaLeft" fmla="*/ 0 w 990720"/>
              <a:gd name="textAreaRight" fmla="*/ 991080 w 9907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lnTo>
                  <a:pt x="5815" y="10800"/>
                </a:lnTo>
                <a:close/>
              </a:path>
            </a:pathLst>
          </a:cu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hevron 9"/>
          <p:cNvSpPr/>
          <p:nvPr/>
        </p:nvSpPr>
        <p:spPr>
          <a:xfrm>
            <a:off x="5486400" y="152280"/>
            <a:ext cx="990720" cy="533520"/>
          </a:xfrm>
          <a:custGeom>
            <a:avLst/>
            <a:gdLst>
              <a:gd name="textAreaLeft" fmla="*/ 0 w 990720"/>
              <a:gd name="textAreaRight" fmla="*/ 991080 w 9907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lnTo>
                  <a:pt x="5815" y="10800"/>
                </a:lnTo>
                <a:close/>
              </a:path>
            </a:pathLst>
          </a:cu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590920" y="1295280"/>
            <a:ext cx="129528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4419720" y="1295280"/>
            <a:ext cx="2819160" cy="76212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=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hevron 12"/>
          <p:cNvSpPr/>
          <p:nvPr/>
        </p:nvSpPr>
        <p:spPr>
          <a:xfrm>
            <a:off x="3886200" y="1447920"/>
            <a:ext cx="990720" cy="533160"/>
          </a:xfrm>
          <a:custGeom>
            <a:avLst/>
            <a:gdLst>
              <a:gd name="textAreaLeft" fmla="*/ 0 w 990720"/>
              <a:gd name="textAreaRight" fmla="*/ 991080 w 9907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lnTo>
                  <a:pt x="5815" y="10800"/>
                </a:lnTo>
                <a:close/>
              </a:path>
            </a:pathLst>
          </a:cu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«Будьте же исполнители слова, а не слушатели только, обманывающие самих себя»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(Иак. 1,22)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 для размыш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Есть у Вас какое-либо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илософ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ение о Ребенке? Нуждаетесь ли Вы в такой философ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ой Вы есть Учитель (родитель, воспитатель, профессор, руководитель, начальник…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торитарный, властный, требовательный, строгий, справедливый, гуманный, демократичный, добрый, радостный, грубый, хмурый, с юмором, без юмор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ществуют три типа учителей: те, которы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бъясня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те, которы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жалу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те, которы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дохновля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 какому типу учителей Вы себя причисля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ачитанный ли Вы Учитель 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фере педагогической класс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философии? психологии? метод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тремитесь ли Вы к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ово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ыту, к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о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дагогическим иде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еред кем Вы чувствует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тветстве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свой педагогический тру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159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сли для анали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 Матфея Святое Благове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8.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то время ученики приступили к Иисусу и сказали: кто больше в Царстве Небесн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исус, призвав дитя, поставил его перед 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казал: Истинно говорю вам, если не обратитесь и не будете как дети, не войдете в Царство Небес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так, кто умалится, как это дитя, тот и больше в Царстве Небес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кто примет одного такого дитя во имя Мое, тот и Меня принима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кто соблазнит одного из малых сих, верующих в Меня, тому лучше было бы, если бы повесили ему мельничный жернов на шею и потопили бы во глубине морск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мотрите, не презирайте ни одного из малых сих, ибо Говорю вам, ангелы их на небесах всегда видят лице Отца Моего Небесног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так, нет воли Отца вашего Небесного, чтобы погиб один из малых с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ab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152280" y="1371600"/>
            <a:ext cx="4114800" cy="4267080"/>
          </a:xfrm>
          <a:prstGeom prst="ellipse">
            <a:avLst/>
          </a:prstGeom>
          <a:solidFill>
            <a:srgbClr val="fff53b"/>
          </a:solidFill>
          <a:ln w="9360">
            <a:solidFill>
              <a:srgbClr val="b6dcdf"/>
            </a:solidFill>
            <a:miter/>
          </a:ln>
          <a:effectLst>
            <a:outerShdw dist="1904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iped Right Arrow 5"/>
          <p:cNvSpPr/>
          <p:nvPr/>
        </p:nvSpPr>
        <p:spPr>
          <a:xfrm rot="19546800">
            <a:off x="2634840" y="1282320"/>
            <a:ext cx="2001960" cy="23184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7452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343400" y="304920"/>
            <a:ext cx="4648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увство веры – Религиозн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343400" y="1600200"/>
            <a:ext cx="4648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0"/>
                </a:solidFill>
                <a:latin typeface="Arial"/>
              </a:rPr>
              <a:t>Родительское чувство – Педагог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43400" y="2971800"/>
            <a:ext cx="4648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увство познания – Научно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илософ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91120" y="4343400"/>
            <a:ext cx="464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0"/>
                </a:solidFill>
                <a:latin typeface="Arial"/>
              </a:rPr>
              <a:t>Чувство красоты – Эстет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14800" y="5638680"/>
            <a:ext cx="4648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увство совести – Этическое с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iped Right Arrow 12"/>
          <p:cNvSpPr/>
          <p:nvPr/>
        </p:nvSpPr>
        <p:spPr>
          <a:xfrm rot="20397000">
            <a:off x="3181320" y="2378160"/>
            <a:ext cx="1154160" cy="25092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6606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iped Right Arrow 14"/>
          <p:cNvSpPr/>
          <p:nvPr/>
        </p:nvSpPr>
        <p:spPr>
          <a:xfrm>
            <a:off x="3276720" y="3273480"/>
            <a:ext cx="1676160" cy="23184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iped Right Arrow 16"/>
          <p:cNvSpPr/>
          <p:nvPr/>
        </p:nvSpPr>
        <p:spPr>
          <a:xfrm rot="770400">
            <a:off x="3212640" y="4195440"/>
            <a:ext cx="1154160" cy="25092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4632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iped Right Arrow 17"/>
          <p:cNvSpPr/>
          <p:nvPr/>
        </p:nvSpPr>
        <p:spPr>
          <a:xfrm rot="2347800">
            <a:off x="2720520" y="5334120"/>
            <a:ext cx="2001960" cy="23148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3054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9"/>
          <p:cNvGrpSpPr/>
          <p:nvPr/>
        </p:nvGrpSpPr>
        <p:grpSpPr>
          <a:xfrm>
            <a:off x="297000" y="762120"/>
            <a:ext cx="4351320" cy="2743200"/>
            <a:chOff x="297000" y="762120"/>
            <a:chExt cx="4351320" cy="2743200"/>
          </a:xfrm>
        </p:grpSpPr>
        <p:sp>
          <p:nvSpPr>
            <p:cNvPr id="76" name="Straight Connector 92"/>
            <p:cNvSpPr/>
            <p:nvPr/>
          </p:nvSpPr>
          <p:spPr>
            <a:xfrm flipV="1">
              <a:off x="639720" y="1214280"/>
              <a:ext cx="4008600" cy="229104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94"/>
            <p:cNvSpPr/>
            <p:nvPr/>
          </p:nvSpPr>
          <p:spPr>
            <a:xfrm>
              <a:off x="2930760" y="2703600"/>
              <a:ext cx="228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5"/>
            <p:cNvSpPr/>
            <p:nvPr/>
          </p:nvSpPr>
          <p:spPr>
            <a:xfrm>
              <a:off x="297000" y="270864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5"/>
            <p:cNvSpPr/>
            <p:nvPr/>
          </p:nvSpPr>
          <p:spPr>
            <a:xfrm>
              <a:off x="3846960" y="76212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5"/>
            <p:cNvSpPr/>
            <p:nvPr/>
          </p:nvSpPr>
          <p:spPr>
            <a:xfrm>
              <a:off x="2930760" y="2937600"/>
              <a:ext cx="594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8"/>
          <p:cNvSpPr/>
          <p:nvPr/>
        </p:nvSpPr>
        <p:spPr>
          <a:xfrm>
            <a:off x="8388360" y="609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2" descr="PseudoSphere.jpg"/>
          <p:cNvPicPr/>
          <p:nvPr/>
        </p:nvPicPr>
        <p:blipFill>
          <a:blip r:embed="rId1"/>
          <a:stretch/>
        </p:blipFill>
        <p:spPr>
          <a:xfrm>
            <a:off x="5410080" y="1511280"/>
            <a:ext cx="2514600" cy="283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3" descr="Nikolay_Ivanovich_Lobachevsky.jpg"/>
          <p:cNvPicPr/>
          <p:nvPr/>
        </p:nvPicPr>
        <p:blipFill>
          <a:blip r:embed="rId2"/>
          <a:stretch/>
        </p:blipFill>
        <p:spPr>
          <a:xfrm>
            <a:off x="7899480" y="1523880"/>
            <a:ext cx="124452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6172200" y="99072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севдосфера Лобач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8001000" y="3657600"/>
            <a:ext cx="1143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Николай Иванович Лобачевск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cc"/>
                </a:solidFill>
                <a:latin typeface="Arial"/>
              </a:rPr>
              <a:t>1792-18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7"/>
          <p:cNvGrpSpPr/>
          <p:nvPr/>
        </p:nvGrpSpPr>
        <p:grpSpPr>
          <a:xfrm>
            <a:off x="297000" y="762120"/>
            <a:ext cx="4351320" cy="2743200"/>
            <a:chOff x="297000" y="762120"/>
            <a:chExt cx="4351320" cy="2743200"/>
          </a:xfrm>
        </p:grpSpPr>
        <p:sp>
          <p:nvSpPr>
            <p:cNvPr id="88" name="Straight Connector 28"/>
            <p:cNvSpPr/>
            <p:nvPr/>
          </p:nvSpPr>
          <p:spPr>
            <a:xfrm flipV="1">
              <a:off x="639720" y="1214280"/>
              <a:ext cx="4008600" cy="229104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9"/>
            <p:cNvSpPr/>
            <p:nvPr/>
          </p:nvSpPr>
          <p:spPr>
            <a:xfrm>
              <a:off x="2930760" y="2703600"/>
              <a:ext cx="228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5"/>
            <p:cNvSpPr/>
            <p:nvPr/>
          </p:nvSpPr>
          <p:spPr>
            <a:xfrm>
              <a:off x="297000" y="270864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3846960" y="762120"/>
              <a:ext cx="5940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5"/>
            <p:cNvSpPr/>
            <p:nvPr/>
          </p:nvSpPr>
          <p:spPr>
            <a:xfrm>
              <a:off x="2930760" y="2937600"/>
              <a:ext cx="594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Допущения гуманной педагогики</a:t>
            </a:r>
            <a:br>
              <a:rPr sz="4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352680" y="121932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Реальность Высшего Мира, Мира Духовного,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510552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Бессмертие Дух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его устремленность к совершенств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114800" y="26668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342900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4876920" y="40384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2:56:25Z</dcterms:created>
  <dc:creator>paata</dc:creator>
  <dc:description/>
  <dc:language>en-US</dc:language>
  <cp:lastModifiedBy>Shalva Amaonashvili</cp:lastModifiedBy>
  <dcterms:modified xsi:type="dcterms:W3CDTF">2009-02-18T18:02:45Z</dcterms:modified>
  <cp:revision>111</cp:revision>
  <dc:subject/>
  <dc:title>Slide 1</dc:title>
</cp:coreProperties>
</file>