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A1B-48D9-491C-8EC0-DEA825A9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38FB-B505-4C4D-B5D4-52193EB8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46C-2FB3-44FA-A119-75EA89D0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3A5-485B-4471-B407-21636AB5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496-119B-45A6-84B8-CAB0A6C3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D71-906B-4E6A-BC40-D3263778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CF9-029C-4561-B727-1C8C121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B46-A81E-474E-9B2B-3B29569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7D8-BF96-44B4-8C52-5913F3C0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551-B545-4763-A863-9011AA8D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C7B-EEEF-4C89-9430-CD62D4C6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BAB-2F2D-45AE-83CF-6398943C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DF25-6D1D-4DC1-A77F-94AB1007C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Тайна Славянской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АзБ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24000" y="476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5280" y="234792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528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420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0429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302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1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0656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95640" y="400536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829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844720" y="393228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814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14036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29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163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054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2927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72616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847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738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61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20000" y="3932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516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8105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9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8692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6756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20000" y="393228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4000" y="1195560"/>
            <a:ext cx="7488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 ВСЯКИЙ, КТО ЧИТАЕТ, В ЧТЕНИИ СИЛУ ЗН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5280" y="2852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УЧЕНЫЙ ВОДИТ, НЕУЧЕНЫЙ СЛЕДОМ 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5280" y="4437000"/>
            <a:ext cx="597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УДРОСТЬ ЕСТЬ ЦАРИЦА НЕБА 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92C-A6C4-47A2-8CEE-929B908F44E7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588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595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602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609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79280" y="2494080"/>
            <a:ext cx="4392720" cy="647640"/>
            <a:chOff x="179280" y="2494080"/>
            <a:chExt cx="4392720" cy="647640"/>
          </a:xfrm>
        </p:grpSpPr>
        <p:sp>
          <p:nvSpPr>
            <p:cNvPr id="616" name=""/>
            <p:cNvSpPr/>
            <p:nvPr/>
          </p:nvSpPr>
          <p:spPr>
            <a:xfrm>
              <a:off x="17928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1188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430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756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0824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394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572000" y="2494080"/>
            <a:ext cx="4392720" cy="647640"/>
            <a:chOff x="4572000" y="2494080"/>
            <a:chExt cx="4392720" cy="647640"/>
          </a:xfrm>
        </p:grpSpPr>
        <p:sp>
          <p:nvSpPr>
            <p:cNvPr id="623" name=""/>
            <p:cNvSpPr/>
            <p:nvPr/>
          </p:nvSpPr>
          <p:spPr>
            <a:xfrm>
              <a:off x="45720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0460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357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683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0096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3212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6B2-DB2E-48FE-8E46-AB08B723E0BB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685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686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693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700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707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79280" y="2494080"/>
            <a:ext cx="4392720" cy="647640"/>
            <a:chOff x="179280" y="2494080"/>
            <a:chExt cx="4392720" cy="647640"/>
          </a:xfrm>
        </p:grpSpPr>
        <p:sp>
          <p:nvSpPr>
            <p:cNvPr id="714" name=""/>
            <p:cNvSpPr/>
            <p:nvPr/>
          </p:nvSpPr>
          <p:spPr>
            <a:xfrm>
              <a:off x="17928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1188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430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756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0824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394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572000" y="2494080"/>
            <a:ext cx="4392720" cy="647640"/>
            <a:chOff x="4572000" y="2494080"/>
            <a:chExt cx="4392720" cy="647640"/>
          </a:xfrm>
        </p:grpSpPr>
        <p:sp>
          <p:nvSpPr>
            <p:cNvPr id="721" name=""/>
            <p:cNvSpPr/>
            <p:nvPr/>
          </p:nvSpPr>
          <p:spPr>
            <a:xfrm>
              <a:off x="45720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0460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357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683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0096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23212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2492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00000" y="2492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н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619280" y="24922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340000" y="24922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0364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51280" y="249228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227640" y="2492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948360" y="2492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43280" y="2781360"/>
            <a:ext cx="505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43564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59636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315280" y="2781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0FD-7064-4FC8-AF5C-BCDCBD6224F0}" type="slidenum">
              <a:t>12</a:t>
            </a:fld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95280" y="1268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Я. Книга. Ведать. Слово. Добро. Есть. Жизнь. Земля. И. Как. Люди. Мысл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9640" y="3357720"/>
            <a:ext cx="8280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Я, Книга, ведающая Словом добра, есть жизнь Земли и, как люди, мыс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0E6-E9B7-4680-98E1-EDCDF198A42E}" type="slidenum">
              <a:t>13</a:t>
            </a:fld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797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798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805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812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819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54880" y="2701800"/>
            <a:ext cx="87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, Книга, ведающая Словом добра, есть жизнь Земли и, как люди, мыс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153-F58F-4593-87D8-9F512449BC61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55640" y="414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3203640" y="706320"/>
            <a:ext cx="2759040" cy="3299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292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134136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6364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2720" y="3932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908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508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108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472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465300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465444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472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816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44500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0B0-F393-445F-8C67-2FAE408616CF}" type="slidenum">
              <a:t>2</a:t>
            </a:fld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7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87280" y="4005360"/>
            <a:ext cx="150660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256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2072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076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0720" y="580536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5229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98920" y="41497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5300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4720" y="42228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272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53020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58784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6200" y="3789360"/>
            <a:ext cx="2449440" cy="238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3500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3280" y="400536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3892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528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44000" y="494028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99280" y="4076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15280" y="5011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45440" y="4149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7280" y="3573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40784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501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5877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5732640"/>
            <a:ext cx="64908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3640" y="5805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23385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79280" y="1197000"/>
            <a:ext cx="4392720" cy="647640"/>
            <a:chOff x="179280" y="1197000"/>
            <a:chExt cx="4392720" cy="647640"/>
          </a:xfrm>
        </p:grpSpPr>
        <p:sp>
          <p:nvSpPr>
            <p:cNvPr id="156" name=""/>
            <p:cNvSpPr/>
            <p:nvPr/>
          </p:nvSpPr>
          <p:spPr>
            <a:xfrm>
              <a:off x="17928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188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430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7564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0824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394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72000" y="1197000"/>
            <a:ext cx="4392720" cy="647640"/>
            <a:chOff x="4572000" y="1197000"/>
            <a:chExt cx="4392720" cy="647640"/>
          </a:xfrm>
        </p:grpSpPr>
        <p:sp>
          <p:nvSpPr>
            <p:cNvPr id="163" name=""/>
            <p:cNvSpPr/>
            <p:nvPr/>
          </p:nvSpPr>
          <p:spPr>
            <a:xfrm>
              <a:off x="457200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0460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357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6836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00960" y="119700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32120" y="119700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79280" y="1844640"/>
            <a:ext cx="4392720" cy="647640"/>
            <a:chOff x="179280" y="1844640"/>
            <a:chExt cx="4392720" cy="647640"/>
          </a:xfrm>
        </p:grpSpPr>
        <p:sp>
          <p:nvSpPr>
            <p:cNvPr id="170" name=""/>
            <p:cNvSpPr/>
            <p:nvPr/>
          </p:nvSpPr>
          <p:spPr>
            <a:xfrm>
              <a:off x="17928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188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30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7564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0824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94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572000" y="1844640"/>
            <a:ext cx="4392720" cy="647640"/>
            <a:chOff x="4572000" y="1844640"/>
            <a:chExt cx="4392720" cy="647640"/>
          </a:xfrm>
        </p:grpSpPr>
        <p:sp>
          <p:nvSpPr>
            <p:cNvPr id="177" name=""/>
            <p:cNvSpPr/>
            <p:nvPr/>
          </p:nvSpPr>
          <p:spPr>
            <a:xfrm>
              <a:off x="457200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0460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357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6836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00960" y="184464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32120" y="184464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79280" y="2494080"/>
            <a:ext cx="4392720" cy="647640"/>
            <a:chOff x="179280" y="2494080"/>
            <a:chExt cx="4392720" cy="647640"/>
          </a:xfrm>
        </p:grpSpPr>
        <p:sp>
          <p:nvSpPr>
            <p:cNvPr id="184" name=""/>
            <p:cNvSpPr/>
            <p:nvPr/>
          </p:nvSpPr>
          <p:spPr>
            <a:xfrm>
              <a:off x="17928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188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430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7564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0824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394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572000" y="2494080"/>
            <a:ext cx="4392720" cy="647640"/>
            <a:chOff x="4572000" y="2494080"/>
            <a:chExt cx="4392720" cy="647640"/>
          </a:xfrm>
        </p:grpSpPr>
        <p:sp>
          <p:nvSpPr>
            <p:cNvPr id="191" name=""/>
            <p:cNvSpPr/>
            <p:nvPr/>
          </p:nvSpPr>
          <p:spPr>
            <a:xfrm>
              <a:off x="457200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0460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357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6836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00960" y="2494080"/>
              <a:ext cx="73224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32120" y="2494080"/>
              <a:ext cx="732600" cy="6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2400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9564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1268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35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6764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8360" y="1268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у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184464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ла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об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184464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м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Жи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Зем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5164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7236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ыс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740720" y="476280"/>
            <a:ext cx="714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863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8C3-33D1-4050-ACE5-6609571F3C18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236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292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93080" y="134136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2720" y="3932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00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2908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508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108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4472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0328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465300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964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56000" y="465444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472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816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544500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DD8-3B98-4D6A-9436-E56F0013E88E}" type="slidenum">
              <a:t>4</a:t>
            </a:fld>
          </a:p>
        </p:txBody>
      </p:sp>
    </p:spTree>
  </p:cSld>
  <p:transition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15" dur="1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16" dur="1500" autoRev="1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763640" y="476280"/>
            <a:ext cx="6121440" cy="5618160"/>
            <a:chOff x="1763640" y="476280"/>
            <a:chExt cx="6121440" cy="5618160"/>
          </a:xfrm>
        </p:grpSpPr>
        <p:sp>
          <p:nvSpPr>
            <p:cNvPr id="304" name=""/>
            <p:cNvSpPr/>
            <p:nvPr/>
          </p:nvSpPr>
          <p:spPr>
            <a:xfrm>
              <a:off x="2358720" y="955800"/>
              <a:ext cx="4902480" cy="4780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54400" y="476280"/>
              <a:ext cx="1077840" cy="957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38240" y="95256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00160" y="19098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63640" y="3106800"/>
              <a:ext cx="1077840" cy="9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58720" y="430236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33680" y="51372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89240" y="51372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83000" y="4421520"/>
              <a:ext cx="1078200" cy="955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62520" y="3106800"/>
              <a:ext cx="1077840" cy="9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26000" y="1791000"/>
              <a:ext cx="1077840" cy="9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65520" y="835200"/>
              <a:ext cx="1077840" cy="95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11840" y="2079720"/>
              <a:ext cx="957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33720" y="1090800"/>
              <a:ext cx="9572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00360" y="712800"/>
              <a:ext cx="955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82760" y="1217880"/>
              <a:ext cx="957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90680" y="2200320"/>
              <a:ext cx="9554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8600" y="3359520"/>
              <a:ext cx="957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49240" y="4591080"/>
              <a:ext cx="955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27480" y="3359520"/>
              <a:ext cx="9576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68920" y="4675320"/>
              <a:ext cx="957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78320" y="5429520"/>
              <a:ext cx="9572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24200" y="5429520"/>
              <a:ext cx="9554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97160" y="1909800"/>
              <a:ext cx="3228840" cy="298800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457-EB7C-4295-8BCE-DD9739E2EBE4}" type="slidenum">
              <a:t>5</a:t>
            </a:fld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3236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8292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3528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8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93080" y="134136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00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728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7636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63640" y="3932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52720" y="3932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4000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2908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16360" y="393372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05080" y="393372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21080" y="3860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472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0328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92360" y="465300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68360" y="465300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56000" y="465444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4472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32000" y="465444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8160" y="4581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000" y="544500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56000" y="278136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107-87CF-4E8F-8461-BC12B7ACA583}" type="slidenum">
              <a:t>6</a:t>
            </a:fld>
          </a:p>
        </p:txBody>
      </p:sp>
    </p:spTree>
  </p:cSld>
  <p:transition>
    <p:checke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" dur="1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23" dur="1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24" dur="1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843280" y="1125360"/>
            <a:ext cx="263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90440" y="2205000"/>
            <a:ext cx="7448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44480" y="2311560"/>
            <a:ext cx="55908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92200" y="2311560"/>
            <a:ext cx="55908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37040" y="231156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231156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2924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7696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2144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869160" y="2314440"/>
            <a:ext cx="558720" cy="560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427880" y="2125800"/>
            <a:ext cx="7444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87640" y="3213000"/>
            <a:ext cx="28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47640" y="4079880"/>
            <a:ext cx="7430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356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9576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43480" y="4178160"/>
            <a:ext cx="558720" cy="5590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87960" y="418140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935680" y="418140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80160" y="4181400"/>
            <a:ext cx="558720" cy="558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356600" y="4008600"/>
            <a:ext cx="74448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189-75F3-4F69-B9D7-406AC3105DFE}" type="slidenum">
              <a:t>7</a:t>
            </a:fld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51280" y="1341360"/>
            <a:ext cx="29527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РОК: Тайна Славя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" y="141300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05080" y="1413000"/>
            <a:ext cx="194292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1916280"/>
            <a:ext cx="107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Е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36360" y="2708280"/>
            <a:ext cx="17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т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03280" y="206208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03280" y="2709720"/>
            <a:ext cx="194328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933800" y="105264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40360" y="133992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35280" y="191628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9236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51280" y="335772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498920" y="3860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35640" y="3860640"/>
            <a:ext cx="64908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54560" y="342900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3640" y="2637000"/>
            <a:ext cx="64944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00720" y="184464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22920" y="1268280"/>
            <a:ext cx="6494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72360" y="191628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1341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75280" y="11253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11640" y="141300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198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64000" y="2708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24360" y="342900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15280" y="270828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99280" y="350028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0872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1916280"/>
            <a:ext cx="1944720" cy="180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549440" y="35020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КТО ИЩ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189080" y="386064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Т Р У Д Н О С Т Ь 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3800" y="422100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АХОДИ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32000" y="4581360"/>
            <a:ext cx="24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 У Д Р О С Т 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4000" y="508464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544500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528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5420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429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302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656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95640" y="595008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829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44720" y="587700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7814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14036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29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163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054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2616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8472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7380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610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20000" y="587700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51640" y="5877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1056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09928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6920" y="594828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75640" y="594828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820000" y="5877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356000" y="278136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дце ум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54920" y="1484280"/>
            <a:ext cx="208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В НАЧАЛ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ЛОВ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582-8A31-4773-9915-E69E0E5237EB}" type="slidenum">
              <a:t>8</a:t>
            </a:fld>
          </a:p>
        </p:txBody>
      </p:sp>
    </p:spTree>
  </p:cSld>
  <p:transition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31" dur="1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32" dur="1500" autoRev="1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24000" y="476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. ВСЯКИЙ. КТО. ЧИТАТЬ. В. ЧТЕНИЕ. СИЛА. ЗНАТЬ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2347920"/>
            <a:ext cx="73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1" lang="ru-RU" sz="2200" spc="-1" strike="noStrike">
                <a:solidFill>
                  <a:srgbClr val="0000cc"/>
                </a:solidFill>
                <a:latin typeface="Arial"/>
              </a:rPr>
              <a:t>УЧЕНЫЙ. ВОДИТЬ. НЕУЧЕНЫЙ. СЛЕД. ХОДИТЬ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5420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429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302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61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0656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195640" y="4005360"/>
            <a:ext cx="21564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829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44720" y="393228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814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4036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29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163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054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4005360"/>
            <a:ext cx="216000" cy="21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2616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8472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7380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610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20000" y="3932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51640" y="3932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1056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09928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386920" y="4003560"/>
            <a:ext cx="21564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675640" y="4003560"/>
            <a:ext cx="216000" cy="2160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820000" y="393228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284-FE04-42CA-A866-94E64BDE839A}" type="slidenum">
              <a:t>9</a:t>
            </a:fld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6:18:47Z</dcterms:created>
  <dc:creator>paata</dc:creator>
  <dc:description/>
  <dc:language>en-US</dc:language>
  <cp:lastModifiedBy>paata</cp:lastModifiedBy>
  <dcterms:modified xsi:type="dcterms:W3CDTF">2007-08-10T09:15:39Z</dcterms:modified>
  <cp:revision>67</cp:revision>
  <dc:subject/>
  <dc:title>Slide 1</dc:title>
</cp:coreProperties>
</file>