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928-E883-4715-ABF4-F3F2CD95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7DB-D4BD-4CA8-BB08-B9576C54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9F8-DBC7-4732-BABB-1467E5F7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F6D-42A0-4CBB-BB08-CDD63D62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C92-22B2-465D-BBF2-61A55B9E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38C-47B9-4E3F-9FD3-B7AD55FA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BB1-6B0D-4692-8D24-B37EC2CC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9C4-103F-4187-BB2F-1408645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0BD-2F30-464C-91E0-8822AB6B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356-5D90-4765-ADD3-CFC8614E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D1E-4829-4FD4-9154-44975134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790-0E47-4EE5-B0FD-5C5418B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3E69-8816-48E3-A86A-F9CDB278B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88968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атематика –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имфония чисе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{    ,    , ? ,    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,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,   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2771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2771640"/>
            <a:ext cx="360360" cy="360360"/>
          </a:xfrm>
          <a:prstGeom prst="ellipse">
            <a:avLst/>
          </a:prstGeom>
          <a:solidFill>
            <a:srgbClr val="eafea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211640" y="2771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6560" y="277164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2797200"/>
            <a:ext cx="430200" cy="263520"/>
          </a:xfrm>
          <a:custGeom>
            <a:avLst/>
            <a:gdLst/>
            <a:ahLst/>
            <a:rect l="l" t="t" r="r" b="b"/>
            <a:pathLst>
              <a:path w="1195" h="736">
                <a:moveTo>
                  <a:pt x="20099" y="6376"/>
                </a:moveTo>
                <a:cubicBezTo>
                  <a:pt x="20059" y="6377"/>
                  <a:pt x="20052" y="6379"/>
                  <a:pt x="20009" y="6361"/>
                </a:cubicBezTo>
                <a:cubicBezTo>
                  <a:pt x="19976" y="6347"/>
                  <a:pt x="19959" y="6339"/>
                  <a:pt x="19922" y="6339"/>
                </a:cubicBezTo>
                <a:cubicBezTo>
                  <a:pt x="19862" y="6339"/>
                  <a:pt x="19777" y="6353"/>
                  <a:pt x="19723" y="6381"/>
                </a:cubicBezTo>
                <a:cubicBezTo>
                  <a:pt x="19688" y="6399"/>
                  <a:pt x="19657" y="6440"/>
                  <a:pt x="19631" y="6468"/>
                </a:cubicBezTo>
                <a:cubicBezTo>
                  <a:pt x="19579" y="6523"/>
                  <a:pt x="19546" y="6575"/>
                  <a:pt x="19524" y="6647"/>
                </a:cubicBezTo>
                <a:cubicBezTo>
                  <a:pt x="19512" y="6684"/>
                  <a:pt x="19501" y="6717"/>
                  <a:pt x="19482" y="6751"/>
                </a:cubicBezTo>
                <a:cubicBezTo>
                  <a:pt x="19452" y="6804"/>
                  <a:pt x="19410" y="6856"/>
                  <a:pt x="19371" y="6902"/>
                </a:cubicBezTo>
                <a:cubicBezTo>
                  <a:pt x="19339" y="6940"/>
                  <a:pt x="19305" y="6968"/>
                  <a:pt x="19266" y="6998"/>
                </a:cubicBezTo>
                <a:cubicBezTo>
                  <a:pt x="19223" y="7031"/>
                  <a:pt x="19178" y="7060"/>
                  <a:pt x="19124" y="7070"/>
                </a:cubicBezTo>
                <a:cubicBezTo>
                  <a:pt x="19053" y="7083"/>
                  <a:pt x="18990" y="7057"/>
                  <a:pt x="18927" y="7026"/>
                </a:cubicBezTo>
                <a:cubicBezTo>
                  <a:pt x="18873" y="6999"/>
                  <a:pt x="18932" y="6997"/>
                  <a:pt x="18936" y="6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{    ,    , ? ,    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,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,   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50028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27280" y="3500280"/>
            <a:ext cx="360360" cy="360360"/>
          </a:xfrm>
          <a:prstGeom prst="ellipse">
            <a:avLst/>
          </a:prstGeom>
          <a:solidFill>
            <a:srgbClr val="eafea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211640" y="350028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6560" y="350028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525840"/>
            <a:ext cx="430200" cy="263520"/>
          </a:xfrm>
          <a:custGeom>
            <a:avLst/>
            <a:gdLst/>
            <a:ahLst/>
            <a:rect l="l" t="t" r="r" b="b"/>
            <a:pathLst>
              <a:path w="1195" h="736">
                <a:moveTo>
                  <a:pt x="20099" y="6376"/>
                </a:moveTo>
                <a:cubicBezTo>
                  <a:pt x="20059" y="6377"/>
                  <a:pt x="20052" y="6379"/>
                  <a:pt x="20009" y="6361"/>
                </a:cubicBezTo>
                <a:cubicBezTo>
                  <a:pt x="19976" y="6347"/>
                  <a:pt x="19959" y="6339"/>
                  <a:pt x="19922" y="6339"/>
                </a:cubicBezTo>
                <a:cubicBezTo>
                  <a:pt x="19862" y="6339"/>
                  <a:pt x="19777" y="6353"/>
                  <a:pt x="19723" y="6381"/>
                </a:cubicBezTo>
                <a:cubicBezTo>
                  <a:pt x="19688" y="6399"/>
                  <a:pt x="19657" y="6440"/>
                  <a:pt x="19631" y="6468"/>
                </a:cubicBezTo>
                <a:cubicBezTo>
                  <a:pt x="19579" y="6523"/>
                  <a:pt x="19546" y="6575"/>
                  <a:pt x="19524" y="6647"/>
                </a:cubicBezTo>
                <a:cubicBezTo>
                  <a:pt x="19512" y="6684"/>
                  <a:pt x="19501" y="6717"/>
                  <a:pt x="19482" y="6751"/>
                </a:cubicBezTo>
                <a:cubicBezTo>
                  <a:pt x="19452" y="6804"/>
                  <a:pt x="19410" y="6856"/>
                  <a:pt x="19371" y="6902"/>
                </a:cubicBezTo>
                <a:cubicBezTo>
                  <a:pt x="19339" y="6940"/>
                  <a:pt x="19305" y="6968"/>
                  <a:pt x="19266" y="6998"/>
                </a:cubicBezTo>
                <a:cubicBezTo>
                  <a:pt x="19223" y="7031"/>
                  <a:pt x="19178" y="7060"/>
                  <a:pt x="19124" y="7070"/>
                </a:cubicBezTo>
                <a:cubicBezTo>
                  <a:pt x="19053" y="7083"/>
                  <a:pt x="18990" y="7057"/>
                  <a:pt x="18927" y="7026"/>
                </a:cubicBezTo>
                <a:cubicBezTo>
                  <a:pt x="18873" y="6999"/>
                  <a:pt x="18932" y="6997"/>
                  <a:pt x="18936" y="6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   ,    ,    ,  ? ,    ,    ,    ,    ,  3 ,    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36520" y="219564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57240" y="2195640"/>
            <a:ext cx="360360" cy="360360"/>
          </a:xfrm>
          <a:prstGeom prst="ellipse">
            <a:avLst/>
          </a:prstGeom>
          <a:solidFill>
            <a:srgbClr val="eafe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33960" y="2195640"/>
            <a:ext cx="360360" cy="360360"/>
          </a:xfrm>
          <a:prstGeom prst="rect">
            <a:avLst/>
          </a:prstGeom>
          <a:solidFill>
            <a:srgbClr val="eafea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84520" y="219708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865240" y="2195640"/>
            <a:ext cx="215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16520" y="2197080"/>
            <a:ext cx="1810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602320" y="2195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952880" y="2195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21600" y="2195640"/>
            <a:ext cx="1807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4480" y="2220840"/>
            <a:ext cx="430200" cy="263520"/>
          </a:xfrm>
          <a:custGeom>
            <a:avLst/>
            <a:gdLst/>
            <a:ahLst/>
            <a:rect l="l" t="t" r="r" b="b"/>
            <a:pathLst>
              <a:path w="1195" h="736">
                <a:moveTo>
                  <a:pt x="20099" y="6376"/>
                </a:moveTo>
                <a:cubicBezTo>
                  <a:pt x="20059" y="6377"/>
                  <a:pt x="20052" y="6379"/>
                  <a:pt x="20009" y="6361"/>
                </a:cubicBezTo>
                <a:cubicBezTo>
                  <a:pt x="19976" y="6347"/>
                  <a:pt x="19959" y="6339"/>
                  <a:pt x="19922" y="6339"/>
                </a:cubicBezTo>
                <a:cubicBezTo>
                  <a:pt x="19862" y="6339"/>
                  <a:pt x="19777" y="6353"/>
                  <a:pt x="19723" y="6381"/>
                </a:cubicBezTo>
                <a:cubicBezTo>
                  <a:pt x="19688" y="6399"/>
                  <a:pt x="19657" y="6440"/>
                  <a:pt x="19631" y="6468"/>
                </a:cubicBezTo>
                <a:cubicBezTo>
                  <a:pt x="19579" y="6523"/>
                  <a:pt x="19546" y="6575"/>
                  <a:pt x="19524" y="6647"/>
                </a:cubicBezTo>
                <a:cubicBezTo>
                  <a:pt x="19512" y="6684"/>
                  <a:pt x="19501" y="6717"/>
                  <a:pt x="19482" y="6751"/>
                </a:cubicBezTo>
                <a:cubicBezTo>
                  <a:pt x="19452" y="6804"/>
                  <a:pt x="19410" y="6856"/>
                  <a:pt x="19371" y="6902"/>
                </a:cubicBezTo>
                <a:cubicBezTo>
                  <a:pt x="19339" y="6940"/>
                  <a:pt x="19305" y="6968"/>
                  <a:pt x="19266" y="6998"/>
                </a:cubicBezTo>
                <a:cubicBezTo>
                  <a:pt x="19223" y="7031"/>
                  <a:pt x="19178" y="7060"/>
                  <a:pt x="19124" y="7070"/>
                </a:cubicBezTo>
                <a:cubicBezTo>
                  <a:pt x="19053" y="7083"/>
                  <a:pt x="18990" y="7057"/>
                  <a:pt x="18927" y="7026"/>
                </a:cubicBezTo>
                <a:cubicBezTo>
                  <a:pt x="18873" y="6999"/>
                  <a:pt x="18932" y="6997"/>
                  <a:pt x="18936" y="6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4169400">
            <a:off x="1187640" y="342864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24360" y="3573360"/>
            <a:ext cx="1440000" cy="266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573360"/>
            <a:ext cx="0" cy="266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4365720"/>
            <a:ext cx="316872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3429000"/>
            <a:ext cx="863640" cy="115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4169400">
            <a:off x="1332000" y="62064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24360" y="476280"/>
            <a:ext cx="1440000" cy="26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4169400">
            <a:off x="1187640" y="47592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620640"/>
            <a:ext cx="1440000" cy="266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43640" y="620640"/>
            <a:ext cx="0" cy="266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1413000"/>
            <a:ext cx="316872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16360" y="476280"/>
            <a:ext cx="863640" cy="115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4169400">
            <a:off x="1187640" y="3428640"/>
            <a:ext cx="1584360" cy="2448000"/>
          </a:xfrm>
          <a:prstGeom prst="rtTriangl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24360" y="3573360"/>
            <a:ext cx="1440000" cy="266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3573360"/>
            <a:ext cx="0" cy="266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4365720"/>
            <a:ext cx="3168720" cy="21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6360" y="3429000"/>
            <a:ext cx="863640" cy="115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116000" y="4581360"/>
            <a:ext cx="2664000" cy="122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5373720"/>
            <a:ext cx="1440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98560" y="1268280"/>
            <a:ext cx="2521080" cy="252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1844640"/>
            <a:ext cx="23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=16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292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58920" y="321300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820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8436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5272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18200" y="3139920"/>
            <a:ext cx="136980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32000" y="429264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9080" y="429264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430200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24360" y="430200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20000" y="321300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71640" y="2276640"/>
            <a:ext cx="71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4984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8200" y="2203560"/>
            <a:ext cx="1369800" cy="936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8436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2720" y="3139920"/>
            <a:ext cx="137016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18200" y="3139920"/>
            <a:ext cx="1369800" cy="9367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40360" y="2276640"/>
            <a:ext cx="718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08720" y="2276640"/>
            <a:ext cx="718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08720" y="321300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40360" y="314172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71640" y="314172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00360" y="765000"/>
            <a:ext cx="4319640" cy="4319640"/>
            <a:chOff x="2700360" y="765000"/>
            <a:chExt cx="4319640" cy="4319640"/>
          </a:xfrm>
        </p:grpSpPr>
        <p:sp>
          <p:nvSpPr>
            <p:cNvPr id="375" name=""/>
            <p:cNvSpPr/>
            <p:nvPr/>
          </p:nvSpPr>
          <p:spPr>
            <a:xfrm>
              <a:off x="3419640" y="29257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00720" y="29257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80000" y="292572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964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0072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80000" y="184464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19640" y="76500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00720" y="76500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80000" y="76500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59280" y="328464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40360" y="328464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9640" y="328464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9280" y="220356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40360" y="220356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19640" y="220356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59280" y="11239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40360" y="112392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19640" y="112392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00360" y="364500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364500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61080" y="364500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00360" y="256392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81440" y="2563920"/>
              <a:ext cx="144000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61080" y="2563920"/>
              <a:ext cx="1439640" cy="143964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00360" y="148428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81440" y="1484280"/>
              <a:ext cx="144000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61080" y="148428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03640" y="1844640"/>
            <a:ext cx="2736720" cy="2736720"/>
          </a:xfrm>
          <a:prstGeom prst="cube">
            <a:avLst>
              <a:gd name="adj" fmla="val 25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922200" y="3862440"/>
            <a:ext cx="2017800" cy="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924360" y="1844280"/>
            <a:ext cx="0" cy="201780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203640" y="3862440"/>
            <a:ext cx="720720" cy="71892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1844640"/>
            <a:ext cx="2736720" cy="2736720"/>
          </a:xfrm>
          <a:prstGeom prst="cube">
            <a:avLst>
              <a:gd name="adj" fmla="val 25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329840" y="3862440"/>
            <a:ext cx="2017800" cy="144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332000" y="1844280"/>
            <a:ext cx="0" cy="201780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11280" y="3862440"/>
            <a:ext cx="720720" cy="71892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92720" y="220500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3575160"/>
            <a:ext cx="1366920" cy="13665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92720" y="494172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92720" y="83808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59640" y="2206800"/>
            <a:ext cx="1366920" cy="13665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25800" y="2205000"/>
            <a:ext cx="1366920" cy="136692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К: МАТЕМАТИКА -СИМФО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476280"/>
            <a:ext cx="503280" cy="1152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052640"/>
            <a:ext cx="502920" cy="57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7628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м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1125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76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ТО ИЩЕТ ТРУДНОСТЬ - НА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2160" y="1701720"/>
            <a:ext cx="1727280" cy="432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347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84464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131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160" y="229068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2349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9162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7080" y="22050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37640" y="2709720"/>
            <a:ext cx="749160" cy="416160"/>
          </a:xfrm>
          <a:custGeom>
            <a:avLst/>
            <a:gdLst/>
            <a:ahLst/>
            <a:rect l="l" t="t" r="r" b="b"/>
            <a:pathLst>
              <a:path w="2085" h="1155">
                <a:moveTo>
                  <a:pt x="22047" y="8618"/>
                </a:moveTo>
                <a:cubicBezTo>
                  <a:pt x="22080" y="8634"/>
                  <a:pt x="22108" y="8651"/>
                  <a:pt x="22144" y="8661"/>
                </a:cubicBezTo>
                <a:cubicBezTo>
                  <a:pt x="22192" y="8675"/>
                  <a:pt x="22231" y="8680"/>
                  <a:pt x="22281" y="8676"/>
                </a:cubicBezTo>
                <a:cubicBezTo>
                  <a:pt x="22351" y="8670"/>
                  <a:pt x="22411" y="8649"/>
                  <a:pt x="22476" y="8624"/>
                </a:cubicBezTo>
                <a:cubicBezTo>
                  <a:pt x="22559" y="8592"/>
                  <a:pt x="22635" y="8547"/>
                  <a:pt x="22714" y="8506"/>
                </a:cubicBezTo>
                <a:cubicBezTo>
                  <a:pt x="22800" y="8461"/>
                  <a:pt x="22886" y="8416"/>
                  <a:pt x="22968" y="8364"/>
                </a:cubicBezTo>
                <a:cubicBezTo>
                  <a:pt x="23058" y="8307"/>
                  <a:pt x="23146" y="8248"/>
                  <a:pt x="23233" y="8188"/>
                </a:cubicBezTo>
                <a:cubicBezTo>
                  <a:pt x="23481" y="8017"/>
                  <a:pt x="23759" y="7870"/>
                  <a:pt x="23985" y="7671"/>
                </a:cubicBezTo>
                <a:cubicBezTo>
                  <a:pt x="24025" y="7636"/>
                  <a:pt x="24076" y="7602"/>
                  <a:pt x="24112" y="7562"/>
                </a:cubicBezTo>
                <a:cubicBezTo>
                  <a:pt x="24118" y="7550"/>
                  <a:pt x="24125" y="7539"/>
                  <a:pt x="24131" y="752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6720" y="249228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28000" y="2565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19280" y="3141720"/>
            <a:ext cx="1008000" cy="1008000"/>
            <a:chOff x="1619280" y="3141720"/>
            <a:chExt cx="1008000" cy="1008000"/>
          </a:xfrm>
        </p:grpSpPr>
        <p:sp>
          <p:nvSpPr>
            <p:cNvPr id="65" name=""/>
            <p:cNvSpPr/>
            <p:nvPr/>
          </p:nvSpPr>
          <p:spPr>
            <a:xfrm>
              <a:off x="161928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54800" y="3141720"/>
              <a:ext cx="672480" cy="6721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19280" y="3477600"/>
              <a:ext cx="672480" cy="672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97964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4000" y="3141720"/>
            <a:ext cx="1008000" cy="1008000"/>
            <a:chOff x="324000" y="3141720"/>
            <a:chExt cx="1008000" cy="1008000"/>
          </a:xfrm>
        </p:grpSpPr>
        <p:sp>
          <p:nvSpPr>
            <p:cNvPr id="70" name=""/>
            <p:cNvSpPr/>
            <p:nvPr/>
          </p:nvSpPr>
          <p:spPr>
            <a:xfrm>
              <a:off x="32400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3141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5640" y="3393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28000" y="3645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80000" y="389808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8436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95280" y="5300640"/>
            <a:ext cx="8229600" cy="1143000"/>
            <a:chOff x="395280" y="5300640"/>
            <a:chExt cx="8229600" cy="1143000"/>
          </a:xfrm>
        </p:grpSpPr>
        <p:sp>
          <p:nvSpPr>
            <p:cNvPr id="78" name=""/>
            <p:cNvSpPr/>
            <p:nvPr/>
          </p:nvSpPr>
          <p:spPr>
            <a:xfrm>
              <a:off x="395280" y="53006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69840" y="572292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0560" y="572292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67280" y="572292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7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698560" y="572292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49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43564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78620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54560" y="572292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4848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 flipV="1">
            <a:off x="3708360" y="321264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03640" y="36450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5440" y="4076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084720" y="29242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752600">
            <a:off x="6659280" y="3357360"/>
            <a:ext cx="1436760" cy="60624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17080" y="3284640"/>
            <a:ext cx="502920" cy="122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11280" y="249228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4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472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1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5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9308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02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2256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5928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9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092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6728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0400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73892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67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4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7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11280" y="249228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4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8472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1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5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9308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02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2256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5928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3092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0400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73892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7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4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116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11280" y="249228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4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8472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308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028000" y="249228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86920" y="263664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2256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5928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9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30920" y="263700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86728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0400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3892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675640" y="263700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83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4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116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0508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4980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8652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2144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958160" y="242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42920" y="227664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124000" y="227664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03640" y="227664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42920" y="335592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24000" y="335592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3640" y="335592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42920" y="443556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24000" y="443556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3640" y="4435560"/>
            <a:ext cx="1081080" cy="1081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234936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0920" y="3429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4437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16000" y="566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97080" y="566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19640" y="5661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11640" y="450864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13080" y="342900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11640" y="2347920"/>
            <a:ext cx="79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48360" y="2276640"/>
            <a:ext cx="38494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2 3 4 5 6 7 9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X 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? ? ? ? ? ? ?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42920" y="1197000"/>
            <a:ext cx="2556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ля в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14920" y="1197000"/>
            <a:ext cx="4321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148360" y="2349360"/>
            <a:ext cx="374472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К: МАТЕМАТИКА -СИМФО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92360" y="476280"/>
            <a:ext cx="503280" cy="1152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40360" y="1052640"/>
            <a:ext cx="502920" cy="57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67280" y="47628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м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16360" y="1125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32720" y="476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ТО ИЩЕТ ТРУДНОСТЬ - НА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42160" y="1701720"/>
            <a:ext cx="1727280" cy="432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87280" y="2347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68360" y="184464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8000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64000" y="2131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3272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1160" y="229068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258920" y="2349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40000" y="19162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437080" y="22050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0400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937640" y="2709720"/>
            <a:ext cx="749160" cy="416160"/>
          </a:xfrm>
          <a:custGeom>
            <a:avLst/>
            <a:gdLst/>
            <a:ahLst/>
            <a:rect l="l" t="t" r="r" b="b"/>
            <a:pathLst>
              <a:path w="2085" h="1155">
                <a:moveTo>
                  <a:pt x="22047" y="8618"/>
                </a:moveTo>
                <a:cubicBezTo>
                  <a:pt x="22080" y="8634"/>
                  <a:pt x="22108" y="8651"/>
                  <a:pt x="22144" y="8661"/>
                </a:cubicBezTo>
                <a:cubicBezTo>
                  <a:pt x="22192" y="8675"/>
                  <a:pt x="22231" y="8680"/>
                  <a:pt x="22281" y="8676"/>
                </a:cubicBezTo>
                <a:cubicBezTo>
                  <a:pt x="22351" y="8670"/>
                  <a:pt x="22411" y="8649"/>
                  <a:pt x="22476" y="8624"/>
                </a:cubicBezTo>
                <a:cubicBezTo>
                  <a:pt x="22559" y="8592"/>
                  <a:pt x="22635" y="8547"/>
                  <a:pt x="22714" y="8506"/>
                </a:cubicBezTo>
                <a:cubicBezTo>
                  <a:pt x="22800" y="8461"/>
                  <a:pt x="22886" y="8416"/>
                  <a:pt x="22968" y="8364"/>
                </a:cubicBezTo>
                <a:cubicBezTo>
                  <a:pt x="23058" y="8307"/>
                  <a:pt x="23146" y="8248"/>
                  <a:pt x="23233" y="8188"/>
                </a:cubicBezTo>
                <a:cubicBezTo>
                  <a:pt x="23481" y="8017"/>
                  <a:pt x="23759" y="7870"/>
                  <a:pt x="23985" y="7671"/>
                </a:cubicBezTo>
                <a:cubicBezTo>
                  <a:pt x="24025" y="7636"/>
                  <a:pt x="24076" y="7602"/>
                  <a:pt x="24112" y="7562"/>
                </a:cubicBezTo>
                <a:cubicBezTo>
                  <a:pt x="24118" y="7550"/>
                  <a:pt x="24125" y="7539"/>
                  <a:pt x="24131" y="752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6720" y="249228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028000" y="2565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619280" y="3141720"/>
            <a:ext cx="1008000" cy="1008000"/>
            <a:chOff x="1619280" y="3141720"/>
            <a:chExt cx="1008000" cy="1008000"/>
          </a:xfrm>
        </p:grpSpPr>
        <p:sp>
          <p:nvSpPr>
            <p:cNvPr id="543" name=""/>
            <p:cNvSpPr/>
            <p:nvPr/>
          </p:nvSpPr>
          <p:spPr>
            <a:xfrm>
              <a:off x="161928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54800" y="3141720"/>
              <a:ext cx="672480" cy="6721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19280" y="3477600"/>
              <a:ext cx="672480" cy="672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97964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24000" y="3141720"/>
            <a:ext cx="1008000" cy="1008000"/>
            <a:chOff x="324000" y="3141720"/>
            <a:chExt cx="1008000" cy="1008000"/>
          </a:xfrm>
        </p:grpSpPr>
        <p:sp>
          <p:nvSpPr>
            <p:cNvPr id="548" name=""/>
            <p:cNvSpPr/>
            <p:nvPr/>
          </p:nvSpPr>
          <p:spPr>
            <a:xfrm>
              <a:off x="32400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4000" y="3141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5640" y="3393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8000" y="3645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80000" y="389808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8436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40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5280" y="5300640"/>
            <a:ext cx="8229600" cy="1143000"/>
            <a:chOff x="395280" y="5300640"/>
            <a:chExt cx="8229600" cy="1143000"/>
          </a:xfrm>
        </p:grpSpPr>
        <p:sp>
          <p:nvSpPr>
            <p:cNvPr id="556" name=""/>
            <p:cNvSpPr/>
            <p:nvPr/>
          </p:nvSpPr>
          <p:spPr>
            <a:xfrm>
              <a:off x="395280" y="53006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69840" y="572292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90560" y="572292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67280" y="572292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17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2698560" y="572292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49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43564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78620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54560" y="572292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97800" y="574848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 flipV="1">
            <a:off x="3708360" y="321264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70836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003640" y="36450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05440" y="4076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084720" y="29242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19752600">
            <a:off x="6659280" y="3357360"/>
            <a:ext cx="1436760" cy="60624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317080" y="3284640"/>
            <a:ext cx="502920" cy="122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" dur="1000" autoRev="1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" dur="1000" autoRev="1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133800" y="4076640"/>
            <a:ext cx="3743280" cy="2448000"/>
          </a:xfrm>
          <a:prstGeom prst="ellipse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7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11280" y="33336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34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472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21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5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09308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02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6920" y="47736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12256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5928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092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6728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0400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73892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67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836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34144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95280" y="1700280"/>
            <a:ext cx="2160720" cy="2160360"/>
            <a:chOff x="395280" y="1700280"/>
            <a:chExt cx="2160720" cy="2160360"/>
          </a:xfrm>
        </p:grpSpPr>
        <p:sp>
          <p:nvSpPr>
            <p:cNvPr id="599" name=""/>
            <p:cNvSpPr/>
            <p:nvPr/>
          </p:nvSpPr>
          <p:spPr>
            <a:xfrm>
              <a:off x="75492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9564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35640" y="278100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92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9564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35640" y="223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492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564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35640" y="170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456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11564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55280" y="296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456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1564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55280" y="241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456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1564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55280" y="187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528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3600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76000" y="314064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528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3600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76000" y="259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528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3600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76000" y="205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24000" y="4221000"/>
            <a:ext cx="2736720" cy="2089440"/>
            <a:chOff x="324000" y="4221000"/>
            <a:chExt cx="2736720" cy="2089440"/>
          </a:xfrm>
        </p:grpSpPr>
        <p:sp>
          <p:nvSpPr>
            <p:cNvPr id="627" name=""/>
            <p:cNvSpPr/>
            <p:nvPr/>
          </p:nvSpPr>
          <p:spPr>
            <a:xfrm>
              <a:off x="324000" y="4221000"/>
              <a:ext cx="273672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2 3 4 5 6 7 9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 X 3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_____________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 ? ? ? ? ? ? ?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4000" y="4266000"/>
              <a:ext cx="2662200" cy="20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422520" y="4581360"/>
            <a:ext cx="3024360" cy="1377720"/>
            <a:chOff x="3422520" y="4581360"/>
            <a:chExt cx="3024360" cy="1377720"/>
          </a:xfrm>
        </p:grpSpPr>
        <p:sp>
          <p:nvSpPr>
            <p:cNvPr id="630" name=""/>
            <p:cNvSpPr/>
            <p:nvPr/>
          </p:nvSpPr>
          <p:spPr>
            <a:xfrm>
              <a:off x="399348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2252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3176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7040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3284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70400" y="501804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5636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6188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6712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0656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1136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551640" y="2852640"/>
            <a:ext cx="2592000" cy="2316240"/>
            <a:chOff x="6551640" y="2852640"/>
            <a:chExt cx="2592000" cy="2316240"/>
          </a:xfrm>
        </p:grpSpPr>
        <p:sp>
          <p:nvSpPr>
            <p:cNvPr id="643" name=""/>
            <p:cNvSpPr/>
            <p:nvPr/>
          </p:nvSpPr>
          <p:spPr>
            <a:xfrm>
              <a:off x="698364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332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6228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8364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7332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16228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8364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7332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6228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51640" y="28922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5164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51640" y="40305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2324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1292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8000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2000" y="40694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71272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12000" y="28911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563640" y="1844280"/>
            <a:ext cx="1440000" cy="1440360"/>
            <a:chOff x="3563640" y="1844280"/>
            <a:chExt cx="1440000" cy="1440360"/>
          </a:xfrm>
        </p:grpSpPr>
        <p:sp>
          <p:nvSpPr>
            <p:cNvPr id="662" name=""/>
            <p:cNvSpPr/>
            <p:nvPr/>
          </p:nvSpPr>
          <p:spPr>
            <a:xfrm>
              <a:off x="356400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3942000" y="2906280"/>
              <a:ext cx="1061280" cy="72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943080" y="1844280"/>
              <a:ext cx="0" cy="10616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3563640" y="2906280"/>
              <a:ext cx="379080" cy="3780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5983200" y="1341360"/>
            <a:ext cx="1290600" cy="10764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51560" y="1628640"/>
            <a:ext cx="1613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38836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88968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ПАСИБО, 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МАТЕМАТИК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3800" y="4076640"/>
            <a:ext cx="3743280" cy="2448000"/>
          </a:xfrm>
          <a:prstGeom prst="ellipse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333360"/>
            <a:ext cx="64800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28000" y="333360"/>
            <a:ext cx="647640" cy="647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477360"/>
            <a:ext cx="28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256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0920" y="477720"/>
            <a:ext cx="28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3892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75640" y="477720"/>
            <a:ext cx="2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1440" y="262080"/>
            <a:ext cx="790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5280" y="1700280"/>
            <a:ext cx="2160720" cy="2160360"/>
            <a:chOff x="395280" y="1700280"/>
            <a:chExt cx="2160720" cy="2160360"/>
          </a:xfrm>
        </p:grpSpPr>
        <p:sp>
          <p:nvSpPr>
            <p:cNvPr id="121" name=""/>
            <p:cNvSpPr/>
            <p:nvPr/>
          </p:nvSpPr>
          <p:spPr>
            <a:xfrm>
              <a:off x="75492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" y="278100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5640" y="278100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92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640" y="223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5640" y="223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492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5640" y="170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35640" y="170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456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15640" y="296028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55280" y="296028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56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5640" y="241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55280" y="241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456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5640" y="187956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55280" y="187956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528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36000" y="314064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6000" y="314064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28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6000" y="259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76000" y="259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28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6000" y="2059920"/>
              <a:ext cx="72036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76000" y="2059920"/>
              <a:ext cx="720000" cy="72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24000" y="4221000"/>
            <a:ext cx="2736720" cy="2089440"/>
            <a:chOff x="324000" y="4221000"/>
            <a:chExt cx="2736720" cy="2089440"/>
          </a:xfrm>
        </p:grpSpPr>
        <p:sp>
          <p:nvSpPr>
            <p:cNvPr id="149" name=""/>
            <p:cNvSpPr/>
            <p:nvPr/>
          </p:nvSpPr>
          <p:spPr>
            <a:xfrm>
              <a:off x="324000" y="4221000"/>
              <a:ext cx="273672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2 3 4 5 6 7 9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 X 3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_____________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 ? ? ? ? ? ? ?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000" y="4266000"/>
              <a:ext cx="2662200" cy="20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422520" y="4581360"/>
            <a:ext cx="3024360" cy="1377720"/>
            <a:chOff x="3422520" y="4581360"/>
            <a:chExt cx="3024360" cy="1377720"/>
          </a:xfrm>
        </p:grpSpPr>
        <p:sp>
          <p:nvSpPr>
            <p:cNvPr id="152" name=""/>
            <p:cNvSpPr/>
            <p:nvPr/>
          </p:nvSpPr>
          <p:spPr>
            <a:xfrm>
              <a:off x="399348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252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176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70400" y="458136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420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2840" y="5018040"/>
              <a:ext cx="63936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0400" y="5018040"/>
              <a:ext cx="639000" cy="43668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5636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1880" y="55558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6712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06560" y="55602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1360" y="50522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551640" y="2852640"/>
            <a:ext cx="2592000" cy="2316240"/>
            <a:chOff x="6551640" y="2852640"/>
            <a:chExt cx="2592000" cy="2316240"/>
          </a:xfrm>
        </p:grpSpPr>
        <p:sp>
          <p:nvSpPr>
            <p:cNvPr id="165" name=""/>
            <p:cNvSpPr/>
            <p:nvPr/>
          </p:nvSpPr>
          <p:spPr>
            <a:xfrm>
              <a:off x="698364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7332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62280" y="28526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8364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7332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2280" y="344088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364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7332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62280" y="4029840"/>
              <a:ext cx="589680" cy="5893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1640" y="28922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164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1640" y="40305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2324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1292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80000" y="469800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12000" y="40694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12720" y="348084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712000" y="2891160"/>
              <a:ext cx="430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63640" y="1844280"/>
            <a:ext cx="1440000" cy="1440360"/>
            <a:chOff x="3563640" y="1844280"/>
            <a:chExt cx="1440000" cy="1440360"/>
          </a:xfrm>
        </p:grpSpPr>
        <p:sp>
          <p:nvSpPr>
            <p:cNvPr id="184" name=""/>
            <p:cNvSpPr/>
            <p:nvPr/>
          </p:nvSpPr>
          <p:spPr>
            <a:xfrm>
              <a:off x="3564000" y="1844640"/>
              <a:ext cx="1439640" cy="1440000"/>
            </a:xfrm>
            <a:prstGeom prst="cube">
              <a:avLst>
                <a:gd name="adj" fmla="val 25000"/>
              </a:avLst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942000" y="2906280"/>
              <a:ext cx="1061280" cy="72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943080" y="1844280"/>
              <a:ext cx="0" cy="10616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63640" y="2906280"/>
              <a:ext cx="379080" cy="3780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983200" y="1341360"/>
            <a:ext cx="1290600" cy="10764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1560" y="1628640"/>
            <a:ext cx="1613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К: МАТЕМАТИКА -СИМФО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476280"/>
            <a:ext cx="503280" cy="115236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1052640"/>
            <a:ext cx="502920" cy="57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47628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м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1125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 отре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476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ТО ИЩЕТ ТРУДНОСТЬ - НА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2160" y="1701720"/>
            <a:ext cx="1727280" cy="432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347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184464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2131920"/>
            <a:ext cx="57636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256392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160" y="2290680"/>
            <a:ext cx="7723080" cy="808200"/>
          </a:xfrm>
          <a:custGeom>
            <a:avLst/>
            <a:gdLst/>
            <a:ahLst/>
            <a:rect l="l" t="t" r="r" b="b"/>
            <a:pathLst>
              <a:path w="21455" h="2244">
                <a:moveTo>
                  <a:pt x="4057" y="6999"/>
                </a:moveTo>
                <a:cubicBezTo>
                  <a:pt x="4081" y="6982"/>
                  <a:pt x="4080" y="6962"/>
                  <a:pt x="4129" y="6949"/>
                </a:cubicBezTo>
                <a:cubicBezTo>
                  <a:pt x="4233" y="6921"/>
                  <a:pt x="4390" y="6983"/>
                  <a:pt x="4477" y="7038"/>
                </a:cubicBezTo>
                <a:cubicBezTo>
                  <a:pt x="4536" y="7076"/>
                  <a:pt x="4582" y="7120"/>
                  <a:pt x="4648" y="7147"/>
                </a:cubicBezTo>
                <a:cubicBezTo>
                  <a:pt x="4794" y="7208"/>
                  <a:pt x="4975" y="7200"/>
                  <a:pt x="5129" y="7217"/>
                </a:cubicBezTo>
                <a:cubicBezTo>
                  <a:pt x="5211" y="7226"/>
                  <a:pt x="5293" y="7236"/>
                  <a:pt x="5374" y="7245"/>
                </a:cubicBezTo>
                <a:cubicBezTo>
                  <a:pt x="5444" y="7253"/>
                  <a:pt x="5514" y="7258"/>
                  <a:pt x="5584" y="7258"/>
                </a:cubicBezTo>
                <a:cubicBezTo>
                  <a:pt x="5654" y="7258"/>
                  <a:pt x="5724" y="7253"/>
                  <a:pt x="5794" y="7252"/>
                </a:cubicBezTo>
                <a:cubicBezTo>
                  <a:pt x="5912" y="7251"/>
                  <a:pt x="6026" y="7245"/>
                  <a:pt x="6143" y="7239"/>
                </a:cubicBezTo>
                <a:cubicBezTo>
                  <a:pt x="6181" y="7237"/>
                  <a:pt x="6218" y="7240"/>
                  <a:pt x="6255" y="7239"/>
                </a:cubicBezTo>
                <a:cubicBezTo>
                  <a:pt x="6289" y="7238"/>
                  <a:pt x="6324" y="7236"/>
                  <a:pt x="6358" y="7234"/>
                </a:cubicBezTo>
                <a:cubicBezTo>
                  <a:pt x="6433" y="7229"/>
                  <a:pt x="6499" y="7206"/>
                  <a:pt x="6572" y="7191"/>
                </a:cubicBezTo>
                <a:cubicBezTo>
                  <a:pt x="6604" y="7184"/>
                  <a:pt x="6637" y="7178"/>
                  <a:pt x="6670" y="7173"/>
                </a:cubicBezTo>
                <a:cubicBezTo>
                  <a:pt x="6745" y="7161"/>
                  <a:pt x="6814" y="7147"/>
                  <a:pt x="6885" y="7119"/>
                </a:cubicBezTo>
                <a:cubicBezTo>
                  <a:pt x="6974" y="7084"/>
                  <a:pt x="7048" y="7028"/>
                  <a:pt x="7132" y="6984"/>
                </a:cubicBezTo>
                <a:cubicBezTo>
                  <a:pt x="7163" y="6968"/>
                  <a:pt x="7194" y="6955"/>
                  <a:pt x="7226" y="6942"/>
                </a:cubicBezTo>
                <a:cubicBezTo>
                  <a:pt x="7253" y="6931"/>
                  <a:pt x="7282" y="6922"/>
                  <a:pt x="7309" y="6909"/>
                </a:cubicBezTo>
                <a:cubicBezTo>
                  <a:pt x="7352" y="6888"/>
                  <a:pt x="7392" y="6861"/>
                  <a:pt x="7429" y="6833"/>
                </a:cubicBezTo>
                <a:cubicBezTo>
                  <a:pt x="7459" y="6810"/>
                  <a:pt x="7482" y="6791"/>
                  <a:pt x="7512" y="6763"/>
                </a:cubicBezTo>
              </a:path>
              <a:path w="21455" h="2244">
                <a:moveTo>
                  <a:pt x="7665" y="6805"/>
                </a:moveTo>
                <a:cubicBezTo>
                  <a:pt x="7749" y="6790"/>
                  <a:pt x="7826" y="6783"/>
                  <a:pt x="7910" y="6781"/>
                </a:cubicBezTo>
                <a:cubicBezTo>
                  <a:pt x="7988" y="6779"/>
                  <a:pt x="8064" y="6783"/>
                  <a:pt x="8142" y="6789"/>
                </a:cubicBezTo>
                <a:cubicBezTo>
                  <a:pt x="8179" y="6792"/>
                  <a:pt x="8214" y="6796"/>
                  <a:pt x="8251" y="6798"/>
                </a:cubicBezTo>
                <a:cubicBezTo>
                  <a:pt x="8511" y="6811"/>
                  <a:pt x="8771" y="6829"/>
                  <a:pt x="9030" y="6857"/>
                </a:cubicBezTo>
                <a:cubicBezTo>
                  <a:pt x="9202" y="6876"/>
                  <a:pt x="9370" y="6888"/>
                  <a:pt x="9539" y="6927"/>
                </a:cubicBezTo>
                <a:cubicBezTo>
                  <a:pt x="9708" y="6966"/>
                  <a:pt x="9871" y="7019"/>
                  <a:pt x="10038" y="7066"/>
                </a:cubicBezTo>
                <a:cubicBezTo>
                  <a:pt x="10139" y="7094"/>
                  <a:pt x="10238" y="7123"/>
                  <a:pt x="10337" y="7158"/>
                </a:cubicBezTo>
                <a:cubicBezTo>
                  <a:pt x="10463" y="7203"/>
                  <a:pt x="10594" y="7244"/>
                  <a:pt x="10725" y="7272"/>
                </a:cubicBezTo>
                <a:cubicBezTo>
                  <a:pt x="10792" y="7286"/>
                  <a:pt x="10862" y="7291"/>
                  <a:pt x="10928" y="7309"/>
                </a:cubicBezTo>
                <a:cubicBezTo>
                  <a:pt x="11011" y="7331"/>
                  <a:pt x="11082" y="7370"/>
                  <a:pt x="11158" y="7409"/>
                </a:cubicBezTo>
                <a:cubicBezTo>
                  <a:pt x="11207" y="7434"/>
                  <a:pt x="11260" y="7452"/>
                  <a:pt x="11308" y="7479"/>
                </a:cubicBezTo>
                <a:cubicBezTo>
                  <a:pt x="11380" y="7520"/>
                  <a:pt x="11477" y="7562"/>
                  <a:pt x="11538" y="7616"/>
                </a:cubicBezTo>
                <a:cubicBezTo>
                  <a:pt x="11599" y="7670"/>
                  <a:pt x="11612" y="7760"/>
                  <a:pt x="11669" y="7817"/>
                </a:cubicBezTo>
                <a:cubicBezTo>
                  <a:pt x="11679" y="7818"/>
                  <a:pt x="11688" y="7818"/>
                  <a:pt x="11698" y="7819"/>
                </a:cubicBezTo>
              </a:path>
              <a:path w="21455" h="2244">
                <a:moveTo>
                  <a:pt x="11927" y="7841"/>
                </a:moveTo>
                <a:cubicBezTo>
                  <a:pt x="12007" y="7873"/>
                  <a:pt x="12087" y="7908"/>
                  <a:pt x="12166" y="7946"/>
                </a:cubicBezTo>
                <a:cubicBezTo>
                  <a:pt x="12263" y="7993"/>
                  <a:pt x="12359" y="8043"/>
                  <a:pt x="12456" y="8090"/>
                </a:cubicBezTo>
                <a:cubicBezTo>
                  <a:pt x="12554" y="8138"/>
                  <a:pt x="12649" y="8180"/>
                  <a:pt x="12754" y="8212"/>
                </a:cubicBezTo>
                <a:cubicBezTo>
                  <a:pt x="12954" y="8272"/>
                  <a:pt x="13160" y="8296"/>
                  <a:pt x="13366" y="8321"/>
                </a:cubicBezTo>
                <a:cubicBezTo>
                  <a:pt x="13499" y="8337"/>
                  <a:pt x="13627" y="8379"/>
                  <a:pt x="13760" y="8388"/>
                </a:cubicBezTo>
                <a:cubicBezTo>
                  <a:pt x="13914" y="8399"/>
                  <a:pt x="14079" y="8378"/>
                  <a:pt x="14232" y="8356"/>
                </a:cubicBezTo>
                <a:cubicBezTo>
                  <a:pt x="14435" y="8326"/>
                  <a:pt x="14645" y="8281"/>
                  <a:pt x="14844" y="8229"/>
                </a:cubicBezTo>
                <a:cubicBezTo>
                  <a:pt x="14951" y="8201"/>
                  <a:pt x="15049" y="8157"/>
                  <a:pt x="15150" y="8111"/>
                </a:cubicBezTo>
                <a:cubicBezTo>
                  <a:pt x="15251" y="8065"/>
                  <a:pt x="15352" y="8018"/>
                  <a:pt x="15454" y="7974"/>
                </a:cubicBezTo>
                <a:cubicBezTo>
                  <a:pt x="15583" y="7919"/>
                  <a:pt x="15715" y="7880"/>
                  <a:pt x="15841" y="7819"/>
                </a:cubicBezTo>
                <a:cubicBezTo>
                  <a:pt x="15945" y="7769"/>
                  <a:pt x="16003" y="7710"/>
                  <a:pt x="16075" y="7625"/>
                </a:cubicBezTo>
                <a:cubicBezTo>
                  <a:pt x="16114" y="7579"/>
                  <a:pt x="16142" y="7525"/>
                  <a:pt x="16180" y="7477"/>
                </a:cubicBezTo>
                <a:cubicBezTo>
                  <a:pt x="16223" y="7443"/>
                  <a:pt x="16238" y="7430"/>
                  <a:pt x="16253" y="7394"/>
                </a:cubicBezTo>
              </a:path>
              <a:path w="21455" h="2244">
                <a:moveTo>
                  <a:pt x="15916" y="7887"/>
                </a:moveTo>
                <a:cubicBezTo>
                  <a:pt x="15993" y="7880"/>
                  <a:pt x="16074" y="7866"/>
                  <a:pt x="16158" y="7856"/>
                </a:cubicBezTo>
                <a:cubicBezTo>
                  <a:pt x="16362" y="7832"/>
                  <a:pt x="16570" y="7824"/>
                  <a:pt x="16775" y="7804"/>
                </a:cubicBezTo>
                <a:cubicBezTo>
                  <a:pt x="17094" y="7773"/>
                  <a:pt x="17395" y="7740"/>
                  <a:pt x="17711" y="7688"/>
                </a:cubicBezTo>
                <a:cubicBezTo>
                  <a:pt x="17841" y="7667"/>
                  <a:pt x="17974" y="7662"/>
                  <a:pt x="18105" y="7645"/>
                </a:cubicBezTo>
                <a:cubicBezTo>
                  <a:pt x="18329" y="7615"/>
                  <a:pt x="18547" y="7530"/>
                  <a:pt x="18774" y="7538"/>
                </a:cubicBezTo>
                <a:cubicBezTo>
                  <a:pt x="18991" y="7545"/>
                  <a:pt x="19220" y="7570"/>
                  <a:pt x="19436" y="7594"/>
                </a:cubicBezTo>
                <a:cubicBezTo>
                  <a:pt x="19634" y="7616"/>
                  <a:pt x="19866" y="7676"/>
                  <a:pt x="20051" y="7747"/>
                </a:cubicBezTo>
                <a:cubicBezTo>
                  <a:pt x="20230" y="7816"/>
                  <a:pt x="20376" y="7913"/>
                  <a:pt x="20484" y="8070"/>
                </a:cubicBezTo>
                <a:cubicBezTo>
                  <a:pt x="20597" y="8233"/>
                  <a:pt x="20696" y="8351"/>
                  <a:pt x="20853" y="8478"/>
                </a:cubicBezTo>
                <a:cubicBezTo>
                  <a:pt x="21185" y="8747"/>
                  <a:pt x="21645" y="9068"/>
                  <a:pt x="22095" y="8999"/>
                </a:cubicBezTo>
                <a:cubicBezTo>
                  <a:pt x="22141" y="8985"/>
                  <a:pt x="22187" y="8972"/>
                  <a:pt x="22233" y="8958"/>
                </a:cubicBezTo>
              </a:path>
              <a:path w="21455" h="2244">
                <a:moveTo>
                  <a:pt x="3970" y="8284"/>
                </a:moveTo>
                <a:cubicBezTo>
                  <a:pt x="3977" y="8282"/>
                  <a:pt x="3983" y="8279"/>
                  <a:pt x="3990" y="8277"/>
                </a:cubicBezTo>
                <a:cubicBezTo>
                  <a:pt x="3921" y="8286"/>
                  <a:pt x="3856" y="8298"/>
                  <a:pt x="3786" y="8295"/>
                </a:cubicBezTo>
                <a:cubicBezTo>
                  <a:pt x="3623" y="8289"/>
                  <a:pt x="3457" y="8232"/>
                  <a:pt x="3301" y="8188"/>
                </a:cubicBezTo>
                <a:cubicBezTo>
                  <a:pt x="3024" y="8111"/>
                  <a:pt x="2757" y="8023"/>
                  <a:pt x="2492" y="7911"/>
                </a:cubicBezTo>
                <a:cubicBezTo>
                  <a:pt x="2257" y="7812"/>
                  <a:pt x="2045" y="7689"/>
                  <a:pt x="1827" y="7559"/>
                </a:cubicBezTo>
                <a:cubicBezTo>
                  <a:pt x="1695" y="7480"/>
                  <a:pt x="1565" y="7403"/>
                  <a:pt x="1425" y="7339"/>
                </a:cubicBezTo>
                <a:cubicBezTo>
                  <a:pt x="1274" y="7270"/>
                  <a:pt x="1144" y="7258"/>
                  <a:pt x="981" y="7252"/>
                </a:cubicBezTo>
                <a:cubicBezTo>
                  <a:pt x="911" y="7249"/>
                  <a:pt x="849" y="7261"/>
                  <a:pt x="779" y="726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349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40000" y="19162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7080" y="220500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04000" y="2637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37640" y="2709720"/>
            <a:ext cx="749160" cy="416160"/>
          </a:xfrm>
          <a:custGeom>
            <a:avLst/>
            <a:gdLst/>
            <a:ahLst/>
            <a:rect l="l" t="t" r="r" b="b"/>
            <a:pathLst>
              <a:path w="2085" h="1155">
                <a:moveTo>
                  <a:pt x="22047" y="8618"/>
                </a:moveTo>
                <a:cubicBezTo>
                  <a:pt x="22080" y="8634"/>
                  <a:pt x="22108" y="8651"/>
                  <a:pt x="22144" y="8661"/>
                </a:cubicBezTo>
                <a:cubicBezTo>
                  <a:pt x="22192" y="8675"/>
                  <a:pt x="22231" y="8680"/>
                  <a:pt x="22281" y="8676"/>
                </a:cubicBezTo>
                <a:cubicBezTo>
                  <a:pt x="22351" y="8670"/>
                  <a:pt x="22411" y="8649"/>
                  <a:pt x="22476" y="8624"/>
                </a:cubicBezTo>
                <a:cubicBezTo>
                  <a:pt x="22559" y="8592"/>
                  <a:pt x="22635" y="8547"/>
                  <a:pt x="22714" y="8506"/>
                </a:cubicBezTo>
                <a:cubicBezTo>
                  <a:pt x="22800" y="8461"/>
                  <a:pt x="22886" y="8416"/>
                  <a:pt x="22968" y="8364"/>
                </a:cubicBezTo>
                <a:cubicBezTo>
                  <a:pt x="23058" y="8307"/>
                  <a:pt x="23146" y="8248"/>
                  <a:pt x="23233" y="8188"/>
                </a:cubicBezTo>
                <a:cubicBezTo>
                  <a:pt x="23481" y="8017"/>
                  <a:pt x="23759" y="7870"/>
                  <a:pt x="23985" y="7671"/>
                </a:cubicBezTo>
                <a:cubicBezTo>
                  <a:pt x="24025" y="7636"/>
                  <a:pt x="24076" y="7602"/>
                  <a:pt x="24112" y="7562"/>
                </a:cubicBezTo>
                <a:cubicBezTo>
                  <a:pt x="24118" y="7550"/>
                  <a:pt x="24125" y="7539"/>
                  <a:pt x="24131" y="752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2492280"/>
            <a:ext cx="576000" cy="503280"/>
          </a:xfrm>
          <a:prstGeom prst="ellipse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028000" y="2565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619280" y="3141720"/>
            <a:ext cx="1008000" cy="1008000"/>
            <a:chOff x="1619280" y="3141720"/>
            <a:chExt cx="1008000" cy="1008000"/>
          </a:xfrm>
        </p:grpSpPr>
        <p:sp>
          <p:nvSpPr>
            <p:cNvPr id="214" name=""/>
            <p:cNvSpPr/>
            <p:nvPr/>
          </p:nvSpPr>
          <p:spPr>
            <a:xfrm>
              <a:off x="161928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54800" y="3141720"/>
              <a:ext cx="672480" cy="67212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19280" y="3477600"/>
              <a:ext cx="672480" cy="672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97964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4000" y="3141720"/>
            <a:ext cx="1008000" cy="1008000"/>
            <a:chOff x="324000" y="3141720"/>
            <a:chExt cx="1008000" cy="1008000"/>
          </a:xfrm>
        </p:grpSpPr>
        <p:sp>
          <p:nvSpPr>
            <p:cNvPr id="219" name=""/>
            <p:cNvSpPr/>
            <p:nvPr/>
          </p:nvSpPr>
          <p:spPr>
            <a:xfrm>
              <a:off x="324000" y="3141720"/>
              <a:ext cx="1008000" cy="1007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" y="3141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5640" y="3393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000" y="364572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0" y="3898080"/>
              <a:ext cx="251640" cy="251640"/>
            </a:xfrm>
            <a:prstGeom prst="rect">
              <a:avLst/>
            </a:prstGeom>
            <a:solidFill>
              <a:srgbClr val="eafea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4360" y="4149720"/>
            <a:ext cx="28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5300640"/>
            <a:ext cx="8229600" cy="1143000"/>
            <a:chOff x="395280" y="5300640"/>
            <a:chExt cx="8229600" cy="1143000"/>
          </a:xfrm>
        </p:grpSpPr>
        <p:sp>
          <p:nvSpPr>
            <p:cNvPr id="227" name=""/>
            <p:cNvSpPr/>
            <p:nvPr/>
          </p:nvSpPr>
          <p:spPr>
            <a:xfrm>
              <a:off x="395280" y="53006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69840" y="572292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90560" y="572292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7280" y="572292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17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698560" y="572292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49840" y="57243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43564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786200" y="572292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54560" y="572292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97800" y="574848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V="1">
            <a:off x="3708360" y="3212640"/>
            <a:ext cx="1871640" cy="647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003640" y="3645000"/>
            <a:ext cx="863640" cy="50472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5440" y="4076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084720" y="2924280"/>
            <a:ext cx="358920" cy="144144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9752600">
            <a:off x="6659280" y="3357360"/>
            <a:ext cx="1436760" cy="606240"/>
          </a:xfrm>
          <a:prstGeom prst="triangle">
            <a:avLst>
              <a:gd name="adj" fmla="val 50000"/>
            </a:avLst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17080" y="3284640"/>
            <a:ext cx="502920" cy="1224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0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" dur="10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856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98560" y="126828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62200" y="213372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27280" y="2997360"/>
            <a:ext cx="863640" cy="8632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86244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8800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38920" y="1268280"/>
            <a:ext cx="2305080" cy="2305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2421000"/>
            <a:ext cx="2305080" cy="230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107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9856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98560" y="126828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2200" y="213372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2997360"/>
            <a:ext cx="863640" cy="8632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0920" y="3862440"/>
            <a:ext cx="863640" cy="86364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1268280"/>
            <a:ext cx="3456000" cy="345600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38920" y="1268280"/>
            <a:ext cx="2305080" cy="2305080"/>
          </a:xfrm>
          <a:prstGeom prst="rect">
            <a:avLst/>
          </a:prstGeom>
          <a:solidFill>
            <a:srgbClr val="eafea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2421000"/>
            <a:ext cx="2305080" cy="230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23640" y="4941360"/>
            <a:ext cx="107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4941720"/>
            <a:ext cx="10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7, 1, 12, 2, 6, 62, 8, 25, 11, 17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95280" y="2573280"/>
            <a:ext cx="8229600" cy="1143000"/>
            <a:chOff x="395280" y="2573280"/>
            <a:chExt cx="8229600" cy="1143000"/>
          </a:xfrm>
        </p:grpSpPr>
        <p:sp>
          <p:nvSpPr>
            <p:cNvPr id="279" name=""/>
            <p:cNvSpPr/>
            <p:nvPr/>
          </p:nvSpPr>
          <p:spPr>
            <a:xfrm>
              <a:off x="395280" y="25732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{    ,    ,    ,  ? ,    ,    ,    ,    ,  3 ,    }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92160" y="2995560"/>
              <a:ext cx="360360" cy="360360"/>
            </a:xfrm>
            <a:prstGeom prst="triangle">
              <a:avLst>
                <a:gd name="adj" fmla="val 50000"/>
              </a:avLst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12880" y="2995560"/>
              <a:ext cx="360360" cy="360360"/>
            </a:xfrm>
            <a:prstGeom prst="ellipse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89240" y="2995560"/>
              <a:ext cx="360360" cy="360360"/>
            </a:xfrm>
            <a:prstGeom prst="rect">
              <a:avLst/>
            </a:prstGeom>
            <a:solidFill>
              <a:srgbClr val="eafea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0160" y="2997360"/>
              <a:ext cx="180720" cy="3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20880" y="299556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72160" y="2997360"/>
              <a:ext cx="181080" cy="3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457600" y="2995560"/>
              <a:ext cx="215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808520" y="2995560"/>
              <a:ext cx="21600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6880" y="2995560"/>
              <a:ext cx="18108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0120" y="3021120"/>
              <a:ext cx="430200" cy="263520"/>
            </a:xfrm>
            <a:custGeom>
              <a:avLst/>
              <a:gdLst/>
              <a:ahLst/>
              <a:rect l="l" t="t" r="r" b="b"/>
              <a:pathLst>
                <a:path w="1195" h="736">
                  <a:moveTo>
                    <a:pt x="20099" y="6376"/>
                  </a:moveTo>
                  <a:cubicBezTo>
                    <a:pt x="20059" y="6377"/>
                    <a:pt x="20052" y="6379"/>
                    <a:pt x="20009" y="6361"/>
                  </a:cubicBezTo>
                  <a:cubicBezTo>
                    <a:pt x="19976" y="6347"/>
                    <a:pt x="19959" y="6339"/>
                    <a:pt x="19922" y="6339"/>
                  </a:cubicBezTo>
                  <a:cubicBezTo>
                    <a:pt x="19862" y="6339"/>
                    <a:pt x="19777" y="6353"/>
                    <a:pt x="19723" y="6381"/>
                  </a:cubicBezTo>
                  <a:cubicBezTo>
                    <a:pt x="19688" y="6399"/>
                    <a:pt x="19657" y="6440"/>
                    <a:pt x="19631" y="6468"/>
                  </a:cubicBezTo>
                  <a:cubicBezTo>
                    <a:pt x="19579" y="6523"/>
                    <a:pt x="19546" y="6575"/>
                    <a:pt x="19524" y="6647"/>
                  </a:cubicBezTo>
                  <a:cubicBezTo>
                    <a:pt x="19512" y="6684"/>
                    <a:pt x="19501" y="6717"/>
                    <a:pt x="19482" y="6751"/>
                  </a:cubicBezTo>
                  <a:cubicBezTo>
                    <a:pt x="19452" y="6804"/>
                    <a:pt x="19410" y="6856"/>
                    <a:pt x="19371" y="6902"/>
                  </a:cubicBezTo>
                  <a:cubicBezTo>
                    <a:pt x="19339" y="6940"/>
                    <a:pt x="19305" y="6968"/>
                    <a:pt x="19266" y="6998"/>
                  </a:cubicBezTo>
                  <a:cubicBezTo>
                    <a:pt x="19223" y="7031"/>
                    <a:pt x="19178" y="7060"/>
                    <a:pt x="19124" y="7070"/>
                  </a:cubicBezTo>
                  <a:cubicBezTo>
                    <a:pt x="19053" y="7083"/>
                    <a:pt x="18990" y="7057"/>
                    <a:pt x="18927" y="7026"/>
                  </a:cubicBezTo>
                  <a:cubicBezTo>
                    <a:pt x="18873" y="6999"/>
                    <a:pt x="18932" y="6997"/>
                    <a:pt x="18936" y="6989"/>
                  </a:cubicBezTo>
                </a:path>
              </a:pathLst>
            </a:custGeom>
            <a:noFill/>
            <a:ln cap="rnd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paata</cp:lastModifiedBy>
  <dcterms:modified xsi:type="dcterms:W3CDTF">2007-08-10T09:36:47Z</dcterms:modified>
  <cp:revision>46</cp:revision>
  <dc:subject/>
  <dc:title>Slide 1</dc:title>
</cp:coreProperties>
</file>