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DB8D-4B11-4AA7-9C16-F1A659802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9525-5325-4F0F-8E22-BB2D0E825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F88F-14DB-4ECB-B324-58994DBEF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2C96-5D8C-4556-B3AE-4E452D2EA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6FFC-C357-43B7-862C-979EF4D2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96E-2734-47DC-B2D0-CFAC3127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C53A-E17C-46BC-82CA-7AF076A4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565-1455-4D58-B854-649E4791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FDA-77E9-45E7-BB05-FB1D00DE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56B-AA4B-470D-AA0C-4DBAABC7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70F-7023-4926-959A-F2E88CE4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1BF1-DC84-4E94-BC6F-1AB88E38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ECC5-F0C5-4D2D-AE2C-03C1D7AF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3EC5-4F6E-4F7F-AA96-81583AAE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2CF-D288-4570-A1EA-5980D067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F8E-3914-43B4-B892-6A0A2AAB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65F2-CBD3-41F8-9E22-19461F1FA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nashdom.shkola@mail.ru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пяты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«Мы соработники у Бог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_26753.jpg"/>
          <p:cNvPicPr/>
          <p:nvPr/>
        </p:nvPicPr>
        <p:blipFill>
          <a:blip r:embed="rId1"/>
          <a:stretch/>
        </p:blipFill>
        <p:spPr>
          <a:xfrm>
            <a:off x="380880" y="228600"/>
            <a:ext cx="173844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220px-Johan_amos_comenius_1592-1671.jpg"/>
          <p:cNvPicPr/>
          <p:nvPr/>
        </p:nvPicPr>
        <p:blipFill>
          <a:blip r:embed="rId2"/>
          <a:stretch/>
        </p:blipFill>
        <p:spPr>
          <a:xfrm>
            <a:off x="6934320" y="360360"/>
            <a:ext cx="1768320" cy="200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200px-Janusz_Korczak.PNG"/>
          <p:cNvPicPr/>
          <p:nvPr/>
        </p:nvPicPr>
        <p:blipFill>
          <a:blip r:embed="rId3"/>
          <a:stretch/>
        </p:blipFill>
        <p:spPr>
          <a:xfrm>
            <a:off x="762120" y="3581280"/>
            <a:ext cx="1352520" cy="215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images.jpeg"/>
          <p:cNvPicPr/>
          <p:nvPr/>
        </p:nvPicPr>
        <p:blipFill>
          <a:blip r:embed="rId4"/>
          <a:stretch/>
        </p:blipFill>
        <p:spPr>
          <a:xfrm>
            <a:off x="7010280" y="3657600"/>
            <a:ext cx="1473480" cy="211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180px-Makarenko.jpg"/>
          <p:cNvPicPr/>
          <p:nvPr/>
        </p:nvPicPr>
        <p:blipFill>
          <a:blip r:embed="rId5"/>
          <a:stretch/>
        </p:blipFill>
        <p:spPr>
          <a:xfrm>
            <a:off x="2590920" y="4495680"/>
            <a:ext cx="1447560" cy="2082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Johann_Heinrich_Pestalozzi.jpg"/>
          <p:cNvPicPr/>
          <p:nvPr/>
        </p:nvPicPr>
        <p:blipFill>
          <a:blip r:embed="rId6"/>
          <a:stretch/>
        </p:blipFill>
        <p:spPr>
          <a:xfrm>
            <a:off x="5003640" y="4495680"/>
            <a:ext cx="1397160" cy="2068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 для размышл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50920" y="836640"/>
            <a:ext cx="8642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л Роджерс: вопросы самому с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ю ли я входить во внутренний мир человека, который учится и взрослеет? Смог лия личностно, эмоционально откликнуться на это ми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ю ли я позволить самому себе быть личностью и строить открытые, эмоционально насыщенные, не ролевые взаимоотношения с моими учениками; отношения, в которых все уча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ею ли я обнаружить интересы каждого в моем классе и смогу ли позволить ему или ей следовать этим индивидуальным интересам, куда бы они не в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огу ли я помочь моим ученикам сохранить живой интерес, любопытство по отношению к самому себе, к миру, который их окружает, - сохранить и поддерживать самое дорогое, чем обладает челове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ог бы я помочь ребенку расти целостным человеком, чувства которого порождают идеи, а идеи чув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сли для анали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нуш Корч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«Воспитатель, котор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не сковывает, а освобожд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не подавляет, а вознос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не комкает, а развив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не диктует, а уч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не требует, а спрашивает,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переживет вместе с ребенком много вдохновляющих минут, не раз следуя увлаженным взором за борьбой ангела с сатаною, где светлый ангел побеждае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042920" y="765000"/>
            <a:ext cx="7201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акт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дрес: Амурская область, город Благовещенск, ул. Чехова,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ефон: 33-23-73, 33-47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йт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kola-nash-dom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та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ashdom.shkola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йт гуманной педагогик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mannaja-pedagogika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йт Издательского до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. Амонашви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zdatamon.narod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0:56:26Z</dcterms:created>
  <dc:creator>paata</dc:creator>
  <dc:description/>
  <dc:language>en-US</dc:language>
  <cp:lastModifiedBy>User</cp:lastModifiedBy>
  <dcterms:modified xsi:type="dcterms:W3CDTF">2013-01-15T05:02:07Z</dcterms:modified>
  <cp:revision>126</cp:revision>
  <dc:subject/>
  <dc:title>Slide 1</dc:title>
</cp:coreProperties>
</file>