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BFF-5C39-4CA6-965F-3450479F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F3C-F08E-48E6-A485-0D1AC4A6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D46-C091-4538-A2B2-062523D2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FE3-D420-4A3E-9419-6C01918E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129-E95B-4347-957E-A131F289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59D-9ABD-4763-B19B-3905545D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F4B-B30E-4EF5-84E5-EF02EA32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67B-FFB1-4F2B-9D39-299E6616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288-BAC5-4228-AAC0-B889202D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FC9-97C0-469A-911C-EBD2AB62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F59-F96A-4423-B459-1A6D684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FD0-194B-429C-9F0D-4DF791C6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40BD-AB4A-44E6-AA02-6EEC49EFF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Мудрореч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802-39DE-4CAE-B2A6-841500D8A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runebi"/>
          <p:cNvPicPr/>
          <p:nvPr/>
        </p:nvPicPr>
        <p:blipFill>
          <a:blip r:embed="rId1"/>
          <a:stretch/>
        </p:blipFill>
        <p:spPr>
          <a:xfrm>
            <a:off x="1281240" y="0"/>
            <a:ext cx="66038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358920" y="431640"/>
            <a:ext cx="68400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8174160" y="1655640"/>
            <a:ext cx="934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у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5A4-93CE-4ABE-9D2C-8105C8E5D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runebi2"/>
          <p:cNvPicPr/>
          <p:nvPr/>
        </p:nvPicPr>
        <p:blipFill>
          <a:blip r:embed="rId1"/>
          <a:stretch/>
        </p:blipFill>
        <p:spPr>
          <a:xfrm>
            <a:off x="230508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2771640" y="646200"/>
            <a:ext cx="4032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    У    Д    Р   О   С   Т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700360" y="1725480"/>
            <a:ext cx="3600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 О    В   Е   С   Т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627280" y="2662200"/>
            <a:ext cx="403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   Е   С   Т  Н  О   С   Т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00360" y="3670200"/>
            <a:ext cx="259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  Ю  Б  О  В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627280" y="4605480"/>
            <a:ext cx="280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  О   Б  Р О  Т 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2629080" y="5686560"/>
            <a:ext cx="2879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Е   Р  Д   Ц  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3780000" y="6381720"/>
            <a:ext cx="115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 А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EA6F-8F1E-4BEC-8A9D-A6044FA4B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50920" y="333360"/>
            <a:ext cx="33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режём муд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95280" y="1341360"/>
            <a:ext cx="23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ли вериш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1773360"/>
            <a:ext cx="2087640" cy="360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95280" y="213372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р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539640" y="3284640"/>
            <a:ext cx="338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лнце всех солнц есть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403280" y="3787920"/>
            <a:ext cx="2087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3564000" y="40644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воя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есть твоя извес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500720" y="404640"/>
            <a:ext cx="208728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611280" y="5086440"/>
            <a:ext cx="36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есть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Царица Неба 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682560" y="5084640"/>
            <a:ext cx="208764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132000" y="1773360"/>
            <a:ext cx="424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Живи по                             – 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минуешь гор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4572000" y="1771560"/>
            <a:ext cx="2089080" cy="360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4572000" y="3429000"/>
            <a:ext cx="39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воя красота –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твоей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5940360" y="3860640"/>
            <a:ext cx="2087640" cy="360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4716360" y="501480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Где                                -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ам 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5653080" y="5013360"/>
            <a:ext cx="208764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7704000" y="260280"/>
            <a:ext cx="1440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дц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DD03-6D33-4078-A778-248FB5E2B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250920" y="333360"/>
            <a:ext cx="33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режём муд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39640" y="1341360"/>
            <a:ext cx="237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ли веришь –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юбо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539640" y="2133720"/>
            <a:ext cx="23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р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539640" y="3284640"/>
            <a:ext cx="338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лнце всех солнц есть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4572000" y="334800"/>
            <a:ext cx="36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воя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честность 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есть твоя извес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684360" y="5086440"/>
            <a:ext cx="36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Мудрость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есть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Царица Неба 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4572000" y="1701720"/>
            <a:ext cx="42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Живи по  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совести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– 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минуешь гор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4643280" y="3429000"/>
            <a:ext cx="39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воя красота –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твоей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доброт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4788000" y="5014800"/>
            <a:ext cx="367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Где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лад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-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ам 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E2BC-56A0-46DE-8396-6D2F97911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318960" y="1219320"/>
            <a:ext cx="3461040" cy="2124000"/>
          </a:xfrm>
          <a:custGeom>
            <a:avLst/>
            <a:gdLst>
              <a:gd name="textAreaLeft" fmla="*/ 0 w 3461040"/>
              <a:gd name="textAreaRight" fmla="*/ 3461400 w 346104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684360" y="1434960"/>
            <a:ext cx="21589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еугольны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"/>
          <p:cNvSpPr/>
          <p:nvPr/>
        </p:nvSpPr>
        <p:spPr>
          <a:xfrm>
            <a:off x="306360" y="1397160"/>
            <a:ext cx="1457280" cy="1912680"/>
          </a:xfrm>
          <a:custGeom>
            <a:avLst/>
            <a:gdLst>
              <a:gd name="textAreaLeft" fmla="*/ 0 w 1457280"/>
              <a:gd name="textAreaRight" fmla="*/ 1457640 w 145728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"/>
          <p:cNvSpPr/>
          <p:nvPr/>
        </p:nvSpPr>
        <p:spPr>
          <a:xfrm>
            <a:off x="4960800" y="1093680"/>
            <a:ext cx="3211560" cy="197172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5191200" y="1190520"/>
            <a:ext cx="2117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ософск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8"/>
          <p:cNvSpPr/>
          <p:nvPr/>
        </p:nvSpPr>
        <p:spPr>
          <a:xfrm>
            <a:off x="4948200" y="1266840"/>
            <a:ext cx="1352520" cy="1774800"/>
          </a:xfrm>
          <a:custGeom>
            <a:avLst/>
            <a:gdLst>
              <a:gd name="textAreaLeft" fmla="*/ 0 w 1352520"/>
              <a:gd name="textAreaRight" fmla="*/ 1352880 w 13525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561960" y="3595680"/>
            <a:ext cx="3249720" cy="1994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1994040"/>
              <a:gd name="textAreaBottom" fmla="*/ 1994400 h 199404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835200" y="3736800"/>
            <a:ext cx="29098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претк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38200" y="3768840"/>
            <a:ext cx="1369800" cy="179856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2"/>
          <p:cNvSpPr/>
          <p:nvPr/>
        </p:nvSpPr>
        <p:spPr>
          <a:xfrm>
            <a:off x="5033880" y="3397320"/>
            <a:ext cx="2995560" cy="247968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2479680"/>
              <a:gd name="textAreaBottom" fmla="*/ 2480040 h 24796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ed2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3"/>
          <p:cNvSpPr/>
          <p:nvPr/>
        </p:nvSpPr>
        <p:spPr>
          <a:xfrm>
            <a:off x="5087880" y="3541680"/>
            <a:ext cx="1357200" cy="229068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5508720" y="3757680"/>
            <a:ext cx="21175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шебны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5869080" y="2125800"/>
            <a:ext cx="23032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1619280" y="4649760"/>
            <a:ext cx="2160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ньги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не пах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9"/>
          <p:cNvSpPr/>
          <p:nvPr/>
        </p:nvSpPr>
        <p:spPr>
          <a:xfrm>
            <a:off x="1547640" y="2200320"/>
            <a:ext cx="20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Бог есть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5869080" y="4549680"/>
            <a:ext cx="208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пеши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творить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до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179280" y="4428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4D2C-B3A4-4FFB-B296-3004799E6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1763640" y="549000"/>
            <a:ext cx="5832720" cy="5472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43280" y="765000"/>
            <a:ext cx="3960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м муд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700360" y="1846440"/>
            <a:ext cx="3960720" cy="30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Горы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Забота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Радость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Руч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d2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Спасибо,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удрец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FF43-0CF3-475E-A1D0-B31F2ADB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201"/>
          <p:cNvSpPr/>
          <p:nvPr/>
        </p:nvSpPr>
        <p:spPr>
          <a:xfrm>
            <a:off x="7451640" y="283356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1439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93"/>
          <p:cNvSpPr/>
          <p:nvPr/>
        </p:nvSpPr>
        <p:spPr>
          <a:xfrm>
            <a:off x="3560760" y="968400"/>
            <a:ext cx="2025720" cy="197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4"/>
          <p:cNvSpPr/>
          <p:nvPr/>
        </p:nvSpPr>
        <p:spPr>
          <a:xfrm>
            <a:off x="4152960" y="8190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6"/>
          <p:cNvSpPr/>
          <p:nvPr/>
        </p:nvSpPr>
        <p:spPr>
          <a:xfrm>
            <a:off x="3560760" y="10666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7"/>
          <p:cNvSpPr/>
          <p:nvPr/>
        </p:nvSpPr>
        <p:spPr>
          <a:xfrm>
            <a:off x="3313080" y="16095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8"/>
          <p:cNvSpPr/>
          <p:nvPr/>
        </p:nvSpPr>
        <p:spPr>
          <a:xfrm>
            <a:off x="3411360" y="2252520"/>
            <a:ext cx="44640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9"/>
          <p:cNvSpPr/>
          <p:nvPr/>
        </p:nvSpPr>
        <p:spPr>
          <a:xfrm>
            <a:off x="3905280" y="2697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0"/>
          <p:cNvSpPr/>
          <p:nvPr/>
        </p:nvSpPr>
        <p:spPr>
          <a:xfrm>
            <a:off x="4548240" y="27464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1"/>
          <p:cNvSpPr/>
          <p:nvPr/>
        </p:nvSpPr>
        <p:spPr>
          <a:xfrm>
            <a:off x="5140440" y="25002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2"/>
          <p:cNvSpPr/>
          <p:nvPr/>
        </p:nvSpPr>
        <p:spPr>
          <a:xfrm>
            <a:off x="5338800" y="18572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3"/>
          <p:cNvSpPr/>
          <p:nvPr/>
        </p:nvSpPr>
        <p:spPr>
          <a:xfrm>
            <a:off x="5241960" y="13143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4"/>
          <p:cNvSpPr/>
          <p:nvPr/>
        </p:nvSpPr>
        <p:spPr>
          <a:xfrm>
            <a:off x="4795920" y="870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5"/>
          <p:cNvSpPr/>
          <p:nvPr/>
        </p:nvSpPr>
        <p:spPr>
          <a:xfrm>
            <a:off x="5291280" y="127008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6"/>
          <p:cNvSpPr/>
          <p:nvPr/>
        </p:nvSpPr>
        <p:spPr>
          <a:xfrm>
            <a:off x="4824360" y="838080"/>
            <a:ext cx="3970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7"/>
          <p:cNvSpPr/>
          <p:nvPr/>
        </p:nvSpPr>
        <p:spPr>
          <a:xfrm>
            <a:off x="4176720" y="76500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9"/>
          <p:cNvSpPr/>
          <p:nvPr/>
        </p:nvSpPr>
        <p:spPr>
          <a:xfrm>
            <a:off x="3600360" y="105408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0"/>
          <p:cNvSpPr/>
          <p:nvPr/>
        </p:nvSpPr>
        <p:spPr>
          <a:xfrm>
            <a:off x="3313080" y="162576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1"/>
          <p:cNvSpPr/>
          <p:nvPr/>
        </p:nvSpPr>
        <p:spPr>
          <a:xfrm>
            <a:off x="3462480" y="220680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2"/>
          <p:cNvSpPr/>
          <p:nvPr/>
        </p:nvSpPr>
        <p:spPr>
          <a:xfrm>
            <a:off x="5400720" y="184644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5184720" y="249408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4573440" y="277812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5"/>
          <p:cNvSpPr/>
          <p:nvPr/>
        </p:nvSpPr>
        <p:spPr>
          <a:xfrm>
            <a:off x="3956040" y="270972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6"/>
          <p:cNvSpPr/>
          <p:nvPr/>
        </p:nvSpPr>
        <p:spPr>
          <a:xfrm>
            <a:off x="3906720" y="1362240"/>
            <a:ext cx="1335240" cy="1236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4"/>
          <p:cNvSpPr/>
          <p:nvPr/>
        </p:nvSpPr>
        <p:spPr>
          <a:xfrm>
            <a:off x="395280" y="189000"/>
            <a:ext cx="1295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5"/>
          <p:cNvSpPr/>
          <p:nvPr/>
        </p:nvSpPr>
        <p:spPr>
          <a:xfrm>
            <a:off x="395280" y="189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6"/>
          <p:cNvSpPr/>
          <p:nvPr/>
        </p:nvSpPr>
        <p:spPr>
          <a:xfrm>
            <a:off x="971640" y="765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8"/>
          <p:cNvSpPr/>
          <p:nvPr/>
        </p:nvSpPr>
        <p:spPr>
          <a:xfrm>
            <a:off x="395280" y="189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9"/>
          <p:cNvSpPr/>
          <p:nvPr/>
        </p:nvSpPr>
        <p:spPr>
          <a:xfrm>
            <a:off x="971640" y="76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0"/>
          <p:cNvSpPr/>
          <p:nvPr/>
        </p:nvSpPr>
        <p:spPr>
          <a:xfrm>
            <a:off x="1690560" y="1890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2"/>
          <p:cNvSpPr/>
          <p:nvPr/>
        </p:nvSpPr>
        <p:spPr>
          <a:xfrm>
            <a:off x="971640" y="907920"/>
            <a:ext cx="2017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зоп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4"/>
          <p:cNvSpPr/>
          <p:nvPr/>
        </p:nvSpPr>
        <p:spPr>
          <a:xfrm>
            <a:off x="5938920" y="189000"/>
            <a:ext cx="29541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Блажен человек,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торый сниска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УДРОСТЬ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МУДРОСТЬ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учше жемчуга».</a:t>
            </a:r>
            <a:br>
              <a:rPr sz="2400"/>
            </a:b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Библ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1"/>
          <p:cNvSpPr/>
          <p:nvPr/>
        </p:nvSpPr>
        <p:spPr>
          <a:xfrm>
            <a:off x="395280" y="3645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6"/>
          <p:cNvSpPr/>
          <p:nvPr/>
        </p:nvSpPr>
        <p:spPr>
          <a:xfrm>
            <a:off x="1546200" y="36972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87"/>
          <p:cNvSpPr/>
          <p:nvPr/>
        </p:nvSpPr>
        <p:spPr>
          <a:xfrm>
            <a:off x="2914560" y="32083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8"/>
          <p:cNvSpPr/>
          <p:nvPr/>
        </p:nvSpPr>
        <p:spPr>
          <a:xfrm>
            <a:off x="413856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89"/>
          <p:cNvSpPr/>
          <p:nvPr/>
        </p:nvSpPr>
        <p:spPr>
          <a:xfrm>
            <a:off x="5722920" y="3495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90"/>
          <p:cNvSpPr/>
          <p:nvPr/>
        </p:nvSpPr>
        <p:spPr>
          <a:xfrm>
            <a:off x="709128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2"/>
          <p:cNvSpPr/>
          <p:nvPr/>
        </p:nvSpPr>
        <p:spPr>
          <a:xfrm>
            <a:off x="1617840" y="376884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3"/>
          <p:cNvSpPr/>
          <p:nvPr/>
        </p:nvSpPr>
        <p:spPr>
          <a:xfrm>
            <a:off x="2986200" y="327960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4"/>
          <p:cNvSpPr/>
          <p:nvPr/>
        </p:nvSpPr>
        <p:spPr>
          <a:xfrm>
            <a:off x="421020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5"/>
          <p:cNvSpPr/>
          <p:nvPr/>
        </p:nvSpPr>
        <p:spPr>
          <a:xfrm>
            <a:off x="5796000" y="35686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6"/>
          <p:cNvSpPr/>
          <p:nvPr/>
        </p:nvSpPr>
        <p:spPr>
          <a:xfrm>
            <a:off x="716292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8"/>
          <p:cNvSpPr/>
          <p:nvPr/>
        </p:nvSpPr>
        <p:spPr>
          <a:xfrm>
            <a:off x="8028000" y="39337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9"/>
          <p:cNvSpPr/>
          <p:nvPr/>
        </p:nvSpPr>
        <p:spPr>
          <a:xfrm>
            <a:off x="7597800" y="290664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2"/>
          <p:cNvSpPr/>
          <p:nvPr/>
        </p:nvSpPr>
        <p:spPr>
          <a:xfrm>
            <a:off x="8099280" y="4005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3"/>
          <p:cNvSpPr/>
          <p:nvPr/>
        </p:nvSpPr>
        <p:spPr>
          <a:xfrm>
            <a:off x="1187280" y="4869000"/>
            <a:ext cx="8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щ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4"/>
          <p:cNvSpPr/>
          <p:nvPr/>
        </p:nvSpPr>
        <p:spPr>
          <a:xfrm>
            <a:off x="900000" y="5300640"/>
            <a:ext cx="1440000" cy="3729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5"/>
          <p:cNvSpPr/>
          <p:nvPr/>
        </p:nvSpPr>
        <p:spPr>
          <a:xfrm>
            <a:off x="900000" y="5661000"/>
            <a:ext cx="17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йдёш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6"/>
          <p:cNvSpPr/>
          <p:nvPr/>
        </p:nvSpPr>
        <p:spPr>
          <a:xfrm>
            <a:off x="971640" y="6164280"/>
            <a:ext cx="1439640" cy="3729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8"/>
          <p:cNvSpPr/>
          <p:nvPr/>
        </p:nvSpPr>
        <p:spPr>
          <a:xfrm>
            <a:off x="2338560" y="5300640"/>
            <a:ext cx="217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9"/>
          <p:cNvSpPr/>
          <p:nvPr/>
        </p:nvSpPr>
        <p:spPr>
          <a:xfrm>
            <a:off x="2411280" y="6164280"/>
            <a:ext cx="217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0"/>
          <p:cNvSpPr/>
          <p:nvPr/>
        </p:nvSpPr>
        <p:spPr>
          <a:xfrm>
            <a:off x="3059280" y="5156280"/>
            <a:ext cx="266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дрый ничего не дел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1"/>
          <p:cNvSpPr/>
          <p:nvPr/>
        </p:nvSpPr>
        <p:spPr>
          <a:xfrm>
            <a:off x="3708360" y="6008760"/>
            <a:ext cx="144000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2"/>
          <p:cNvSpPr/>
          <p:nvPr/>
        </p:nvSpPr>
        <p:spPr>
          <a:xfrm>
            <a:off x="5292720" y="5950080"/>
            <a:ext cx="217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3"/>
          <p:cNvSpPr/>
          <p:nvPr/>
        </p:nvSpPr>
        <p:spPr>
          <a:xfrm>
            <a:off x="6227640" y="4941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удрость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4"/>
          <p:cNvSpPr/>
          <p:nvPr/>
        </p:nvSpPr>
        <p:spPr>
          <a:xfrm>
            <a:off x="6229440" y="530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25"/>
          <p:cNvSpPr/>
          <p:nvPr/>
        </p:nvSpPr>
        <p:spPr>
          <a:xfrm>
            <a:off x="6659640" y="544500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6"/>
          <p:cNvSpPr/>
          <p:nvPr/>
        </p:nvSpPr>
        <p:spPr>
          <a:xfrm>
            <a:off x="6948360" y="544500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7"/>
          <p:cNvSpPr/>
          <p:nvPr/>
        </p:nvSpPr>
        <p:spPr>
          <a:xfrm>
            <a:off x="7236000" y="544500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28"/>
          <p:cNvSpPr/>
          <p:nvPr/>
        </p:nvSpPr>
        <p:spPr>
          <a:xfrm>
            <a:off x="7524720" y="544500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29"/>
          <p:cNvSpPr/>
          <p:nvPr/>
        </p:nvSpPr>
        <p:spPr>
          <a:xfrm>
            <a:off x="7812000" y="5446800"/>
            <a:ext cx="216000" cy="215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0"/>
          <p:cNvSpPr/>
          <p:nvPr/>
        </p:nvSpPr>
        <p:spPr>
          <a:xfrm>
            <a:off x="6227640" y="5661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31"/>
          <p:cNvSpPr/>
          <p:nvPr/>
        </p:nvSpPr>
        <p:spPr>
          <a:xfrm>
            <a:off x="6657840" y="5805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32"/>
          <p:cNvSpPr/>
          <p:nvPr/>
        </p:nvSpPr>
        <p:spPr>
          <a:xfrm>
            <a:off x="6946920" y="5805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3"/>
          <p:cNvSpPr/>
          <p:nvPr/>
        </p:nvSpPr>
        <p:spPr>
          <a:xfrm>
            <a:off x="7234200" y="580536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4"/>
          <p:cNvSpPr/>
          <p:nvPr/>
        </p:nvSpPr>
        <p:spPr>
          <a:xfrm>
            <a:off x="7740720" y="5661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5"/>
          <p:cNvSpPr/>
          <p:nvPr/>
        </p:nvSpPr>
        <p:spPr>
          <a:xfrm>
            <a:off x="6227640" y="602136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6"/>
          <p:cNvSpPr/>
          <p:nvPr/>
        </p:nvSpPr>
        <p:spPr>
          <a:xfrm>
            <a:off x="665784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37"/>
          <p:cNvSpPr/>
          <p:nvPr/>
        </p:nvSpPr>
        <p:spPr>
          <a:xfrm>
            <a:off x="694692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38"/>
          <p:cNvSpPr/>
          <p:nvPr/>
        </p:nvSpPr>
        <p:spPr>
          <a:xfrm>
            <a:off x="7234200" y="61657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9"/>
          <p:cNvSpPr/>
          <p:nvPr/>
        </p:nvSpPr>
        <p:spPr>
          <a:xfrm>
            <a:off x="7523280" y="616572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0"/>
          <p:cNvSpPr/>
          <p:nvPr/>
        </p:nvSpPr>
        <p:spPr>
          <a:xfrm>
            <a:off x="7740720" y="602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1"/>
          <p:cNvSpPr/>
          <p:nvPr/>
        </p:nvSpPr>
        <p:spPr>
          <a:xfrm>
            <a:off x="2916360" y="4581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мудр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91"/>
          <p:cNvSpPr/>
          <p:nvPr/>
        </p:nvSpPr>
        <p:spPr>
          <a:xfrm>
            <a:off x="639720" y="365436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212"/>
          <p:cNvSpPr/>
          <p:nvPr/>
        </p:nvSpPr>
        <p:spPr>
          <a:xfrm>
            <a:off x="7529400" y="2421000"/>
            <a:ext cx="981360" cy="1517760"/>
          </a:xfrm>
          <a:custGeom>
            <a:avLst/>
            <a:gdLst/>
            <a:ahLst/>
            <a:rect l="l" t="t" r="r" b="b"/>
            <a:pathLst>
              <a:path w="2721" h="4213">
                <a:moveTo>
                  <a:pt x="23258" y="12592"/>
                </a:moveTo>
                <a:cubicBezTo>
                  <a:pt x="23262" y="12585"/>
                  <a:pt x="23265" y="12579"/>
                  <a:pt x="23269" y="12572"/>
                </a:cubicBezTo>
                <a:cubicBezTo>
                  <a:pt x="23227" y="12560"/>
                  <a:pt x="23184" y="12548"/>
                  <a:pt x="23142" y="12535"/>
                </a:cubicBezTo>
                <a:cubicBezTo>
                  <a:pt x="23094" y="12520"/>
                  <a:pt x="23041" y="12510"/>
                  <a:pt x="22995" y="12490"/>
                </a:cubicBezTo>
                <a:cubicBezTo>
                  <a:pt x="22961" y="12475"/>
                  <a:pt x="22932" y="12454"/>
                  <a:pt x="22899" y="12437"/>
                </a:cubicBezTo>
                <a:cubicBezTo>
                  <a:pt x="22741" y="12356"/>
                  <a:pt x="22610" y="12282"/>
                  <a:pt x="22475" y="12167"/>
                </a:cubicBezTo>
                <a:cubicBezTo>
                  <a:pt x="22440" y="12137"/>
                  <a:pt x="22402" y="12109"/>
                  <a:pt x="22363" y="12084"/>
                </a:cubicBezTo>
                <a:cubicBezTo>
                  <a:pt x="22278" y="12031"/>
                  <a:pt x="22202" y="11984"/>
                  <a:pt x="22129" y="11914"/>
                </a:cubicBezTo>
                <a:cubicBezTo>
                  <a:pt x="22097" y="11883"/>
                  <a:pt x="22063" y="11855"/>
                  <a:pt x="22031" y="11824"/>
                </a:cubicBezTo>
                <a:cubicBezTo>
                  <a:pt x="22002" y="11796"/>
                  <a:pt x="21975" y="11766"/>
                  <a:pt x="21946" y="11739"/>
                </a:cubicBezTo>
                <a:cubicBezTo>
                  <a:pt x="21907" y="11703"/>
                  <a:pt x="21864" y="11673"/>
                  <a:pt x="21825" y="11637"/>
                </a:cubicBezTo>
                <a:cubicBezTo>
                  <a:pt x="21768" y="11586"/>
                  <a:pt x="21712" y="11531"/>
                  <a:pt x="21657" y="11480"/>
                </a:cubicBezTo>
                <a:cubicBezTo>
                  <a:pt x="21605" y="11432"/>
                  <a:pt x="21563" y="11379"/>
                  <a:pt x="21515" y="11327"/>
                </a:cubicBezTo>
                <a:cubicBezTo>
                  <a:pt x="21465" y="11272"/>
                  <a:pt x="21408" y="11213"/>
                  <a:pt x="21342" y="11176"/>
                </a:cubicBezTo>
                <a:cubicBezTo>
                  <a:pt x="21308" y="11157"/>
                  <a:pt x="21262" y="11152"/>
                  <a:pt x="21226" y="11135"/>
                </a:cubicBezTo>
                <a:cubicBezTo>
                  <a:pt x="21182" y="11114"/>
                  <a:pt x="21150" y="11086"/>
                  <a:pt x="21110" y="11061"/>
                </a:cubicBezTo>
                <a:cubicBezTo>
                  <a:pt x="20984" y="10983"/>
                  <a:pt x="20856" y="10919"/>
                  <a:pt x="20719" y="10867"/>
                </a:cubicBezTo>
              </a:path>
              <a:path w="2721" h="4213">
                <a:moveTo>
                  <a:pt x="21268" y="9405"/>
                </a:moveTo>
                <a:cubicBezTo>
                  <a:pt x="21300" y="9403"/>
                  <a:pt x="21332" y="9399"/>
                  <a:pt x="21364" y="9396"/>
                </a:cubicBezTo>
                <a:cubicBezTo>
                  <a:pt x="21564" y="9375"/>
                  <a:pt x="21752" y="9396"/>
                  <a:pt x="21952" y="9359"/>
                </a:cubicBezTo>
                <a:cubicBezTo>
                  <a:pt x="22015" y="9347"/>
                  <a:pt x="22076" y="9330"/>
                  <a:pt x="22140" y="9320"/>
                </a:cubicBezTo>
                <a:cubicBezTo>
                  <a:pt x="22264" y="9301"/>
                  <a:pt x="22390" y="9282"/>
                  <a:pt x="22510" y="9244"/>
                </a:cubicBezTo>
                <a:cubicBezTo>
                  <a:pt x="22611" y="9211"/>
                  <a:pt x="22714" y="9164"/>
                  <a:pt x="22801" y="9102"/>
                </a:cubicBezTo>
                <a:cubicBezTo>
                  <a:pt x="23010" y="8952"/>
                  <a:pt x="23097" y="8690"/>
                  <a:pt x="23262" y="8502"/>
                </a:cubicBezTo>
                <a:cubicBezTo>
                  <a:pt x="23315" y="8441"/>
                  <a:pt x="23370" y="8415"/>
                  <a:pt x="23439" y="83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FDA3-BD9F-46CA-9FDF-AD058BBDC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6360" y="44280"/>
            <a:ext cx="12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36360" y="4428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12720" y="620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36360" y="44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612720" y="620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332000" y="4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932360" y="3429000"/>
            <a:ext cx="201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6360" y="3500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sokrat_1"/>
          <p:cNvPicPr/>
          <p:nvPr/>
        </p:nvPicPr>
        <p:blipFill>
          <a:blip r:embed="rId1"/>
          <a:stretch/>
        </p:blipFill>
        <p:spPr>
          <a:xfrm>
            <a:off x="642960" y="642960"/>
            <a:ext cx="2052720" cy="2798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828720" y="3430440"/>
            <a:ext cx="13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platon_2"/>
          <p:cNvPicPr/>
          <p:nvPr/>
        </p:nvPicPr>
        <p:blipFill>
          <a:blip r:embed="rId2"/>
          <a:stretch/>
        </p:blipFill>
        <p:spPr>
          <a:xfrm>
            <a:off x="2808360" y="692280"/>
            <a:ext cx="2017800" cy="280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5"/>
          <p:cNvSpPr/>
          <p:nvPr/>
        </p:nvSpPr>
        <p:spPr>
          <a:xfrm>
            <a:off x="3132000" y="3429000"/>
            <a:ext cx="13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aristotel_2"/>
          <p:cNvPicPr/>
          <p:nvPr/>
        </p:nvPicPr>
        <p:blipFill>
          <a:blip r:embed="rId3"/>
          <a:stretch/>
        </p:blipFill>
        <p:spPr>
          <a:xfrm>
            <a:off x="4896000" y="692280"/>
            <a:ext cx="2004840" cy="2809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konfucii_3"/>
          <p:cNvPicPr/>
          <p:nvPr/>
        </p:nvPicPr>
        <p:blipFill>
          <a:blip r:embed="rId4"/>
          <a:stretch/>
        </p:blipFill>
        <p:spPr>
          <a:xfrm>
            <a:off x="6948360" y="692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0"/>
          <p:cNvSpPr/>
          <p:nvPr/>
        </p:nvSpPr>
        <p:spPr>
          <a:xfrm>
            <a:off x="7164360" y="3429000"/>
            <a:ext cx="18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esop_1"/>
          <p:cNvPicPr/>
          <p:nvPr/>
        </p:nvPicPr>
        <p:blipFill>
          <a:blip r:embed="rId5"/>
          <a:stretch/>
        </p:blipFill>
        <p:spPr>
          <a:xfrm>
            <a:off x="671400" y="3860640"/>
            <a:ext cx="1992600" cy="2664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971640" y="64533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3" descr="pifagor_1"/>
          <p:cNvPicPr/>
          <p:nvPr/>
        </p:nvPicPr>
        <p:blipFill>
          <a:blip r:embed="rId6"/>
          <a:stretch/>
        </p:blipFill>
        <p:spPr>
          <a:xfrm>
            <a:off x="2933640" y="3860640"/>
            <a:ext cx="1998720" cy="2664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4"/>
          <p:cNvSpPr/>
          <p:nvPr/>
        </p:nvSpPr>
        <p:spPr>
          <a:xfrm>
            <a:off x="3059280" y="6453360"/>
            <a:ext cx="165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6" descr="diogen_1"/>
          <p:cNvPicPr/>
          <p:nvPr/>
        </p:nvPicPr>
        <p:blipFill>
          <a:blip r:embed="rId7"/>
          <a:stretch/>
        </p:blipFill>
        <p:spPr>
          <a:xfrm>
            <a:off x="5219640" y="3916440"/>
            <a:ext cx="3673440" cy="2608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7"/>
          <p:cNvSpPr/>
          <p:nvPr/>
        </p:nvSpPr>
        <p:spPr>
          <a:xfrm>
            <a:off x="6081840" y="6453360"/>
            <a:ext cx="1298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E3B1-09AE-480B-ADD5-53574C4F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95280" y="907920"/>
            <a:ext cx="1727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Ищ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63640" y="1052640"/>
            <a:ext cx="2374920" cy="5032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1700280"/>
            <a:ext cx="2735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йдёш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698920" y="1774800"/>
            <a:ext cx="2232000" cy="5018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282920" y="112392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5003640" y="1773360"/>
            <a:ext cx="217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2627280" y="4867200"/>
            <a:ext cx="36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Мудрость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687680" y="2852640"/>
            <a:ext cx="4825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удрый ничего не делает, 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425840" y="3571920"/>
            <a:ext cx="2448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7018200" y="3716280"/>
            <a:ext cx="217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62728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320364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6"/>
          <p:cNvSpPr/>
          <p:nvPr/>
        </p:nvSpPr>
        <p:spPr>
          <a:xfrm>
            <a:off x="349236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7"/>
          <p:cNvSpPr/>
          <p:nvPr/>
        </p:nvSpPr>
        <p:spPr>
          <a:xfrm>
            <a:off x="3780000" y="558792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406872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4356000" y="5589720"/>
            <a:ext cx="216000" cy="215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486108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1"/>
          <p:cNvSpPr/>
          <p:nvPr/>
        </p:nvSpPr>
        <p:spPr>
          <a:xfrm>
            <a:off x="536400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2"/>
          <p:cNvSpPr/>
          <p:nvPr/>
        </p:nvSpPr>
        <p:spPr>
          <a:xfrm>
            <a:off x="565308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3"/>
          <p:cNvSpPr/>
          <p:nvPr/>
        </p:nvSpPr>
        <p:spPr>
          <a:xfrm>
            <a:off x="5940360" y="558792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637236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6877080" y="537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6"/>
          <p:cNvSpPr/>
          <p:nvPr/>
        </p:nvSpPr>
        <p:spPr>
          <a:xfrm>
            <a:off x="7380360" y="558648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7"/>
          <p:cNvSpPr/>
          <p:nvPr/>
        </p:nvSpPr>
        <p:spPr>
          <a:xfrm>
            <a:off x="7669080" y="558648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8"/>
          <p:cNvSpPr/>
          <p:nvPr/>
        </p:nvSpPr>
        <p:spPr>
          <a:xfrm>
            <a:off x="7956720" y="5586480"/>
            <a:ext cx="21564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9"/>
          <p:cNvSpPr/>
          <p:nvPr/>
        </p:nvSpPr>
        <p:spPr>
          <a:xfrm>
            <a:off x="8245440" y="5586480"/>
            <a:ext cx="216000" cy="216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8532720" y="52992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5435640" y="40464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мудр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5BC9-9A3D-4F06-8CFF-0955C9D18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"/>
          <p:cNvSpPr/>
          <p:nvPr/>
        </p:nvSpPr>
        <p:spPr>
          <a:xfrm>
            <a:off x="7451640" y="283356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1439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3560760" y="968400"/>
            <a:ext cx="2025720" cy="197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152960" y="8190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3560760" y="10666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313080" y="16095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411360" y="2252520"/>
            <a:ext cx="44640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3905280" y="2697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4548240" y="27464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5140440" y="25002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5338800" y="18572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5241960" y="131436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795920" y="8701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5291280" y="127008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4824360" y="838080"/>
            <a:ext cx="3970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4176720" y="76500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600360" y="105408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313080" y="162576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3462480" y="220680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5400720" y="184644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5184720" y="249408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4573440" y="277812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3956040" y="270972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5"/>
          <p:cNvSpPr/>
          <p:nvPr/>
        </p:nvSpPr>
        <p:spPr>
          <a:xfrm>
            <a:off x="3906720" y="1362240"/>
            <a:ext cx="1335240" cy="1236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395280" y="189000"/>
            <a:ext cx="1295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395280" y="189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8"/>
          <p:cNvSpPr/>
          <p:nvPr/>
        </p:nvSpPr>
        <p:spPr>
          <a:xfrm>
            <a:off x="971640" y="76500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95280" y="189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>
            <a:off x="971640" y="76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1690560" y="1890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971640" y="907920"/>
            <a:ext cx="2017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зоп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фаг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5938920" y="189000"/>
            <a:ext cx="29541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Блажен человек,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торый сниска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УДРОСТЬ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МУДРОСТЬ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учше жемчуга».</a:t>
            </a:r>
            <a:br>
              <a:rPr sz="2400"/>
            </a:b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Библия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395280" y="3645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1546200" y="36972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2914560" y="32083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3856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5722920" y="3495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7091280" y="392760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1617840" y="376884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2986200" y="327960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3"/>
          <p:cNvSpPr/>
          <p:nvPr/>
        </p:nvSpPr>
        <p:spPr>
          <a:xfrm>
            <a:off x="421020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4"/>
          <p:cNvSpPr/>
          <p:nvPr/>
        </p:nvSpPr>
        <p:spPr>
          <a:xfrm>
            <a:off x="5796000" y="35686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5"/>
          <p:cNvSpPr/>
          <p:nvPr/>
        </p:nvSpPr>
        <p:spPr>
          <a:xfrm>
            <a:off x="7162920" y="40006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6"/>
          <p:cNvSpPr/>
          <p:nvPr/>
        </p:nvSpPr>
        <p:spPr>
          <a:xfrm>
            <a:off x="8028000" y="39337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7"/>
          <p:cNvSpPr/>
          <p:nvPr/>
        </p:nvSpPr>
        <p:spPr>
          <a:xfrm>
            <a:off x="7597800" y="290664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8099280" y="4005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0"/>
          <p:cNvSpPr/>
          <p:nvPr/>
        </p:nvSpPr>
        <p:spPr>
          <a:xfrm>
            <a:off x="682560" y="4797360"/>
            <a:ext cx="21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щи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рудность,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айдёшь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удро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6"/>
          <p:cNvSpPr/>
          <p:nvPr/>
        </p:nvSpPr>
        <p:spPr>
          <a:xfrm>
            <a:off x="3059280" y="5156280"/>
            <a:ext cx="266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дрый ничего не дел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подум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9"/>
          <p:cNvSpPr/>
          <p:nvPr/>
        </p:nvSpPr>
        <p:spPr>
          <a:xfrm>
            <a:off x="6227640" y="5086440"/>
            <a:ext cx="252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удрость есть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арица Неба и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7"/>
          <p:cNvSpPr/>
          <p:nvPr/>
        </p:nvSpPr>
        <p:spPr>
          <a:xfrm>
            <a:off x="2916360" y="4581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мудр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nk 40"/>
          <p:cNvSpPr/>
          <p:nvPr/>
        </p:nvSpPr>
        <p:spPr>
          <a:xfrm>
            <a:off x="639720" y="365436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nk 49"/>
          <p:cNvSpPr/>
          <p:nvPr/>
        </p:nvSpPr>
        <p:spPr>
          <a:xfrm>
            <a:off x="7529400" y="2421000"/>
            <a:ext cx="981360" cy="1517760"/>
          </a:xfrm>
          <a:custGeom>
            <a:avLst/>
            <a:gdLst/>
            <a:ahLst/>
            <a:rect l="l" t="t" r="r" b="b"/>
            <a:pathLst>
              <a:path w="2721" h="4213">
                <a:moveTo>
                  <a:pt x="23258" y="12592"/>
                </a:moveTo>
                <a:cubicBezTo>
                  <a:pt x="23262" y="12585"/>
                  <a:pt x="23265" y="12579"/>
                  <a:pt x="23269" y="12572"/>
                </a:cubicBezTo>
                <a:cubicBezTo>
                  <a:pt x="23227" y="12560"/>
                  <a:pt x="23184" y="12548"/>
                  <a:pt x="23142" y="12535"/>
                </a:cubicBezTo>
                <a:cubicBezTo>
                  <a:pt x="23094" y="12520"/>
                  <a:pt x="23041" y="12510"/>
                  <a:pt x="22995" y="12490"/>
                </a:cubicBezTo>
                <a:cubicBezTo>
                  <a:pt x="22961" y="12475"/>
                  <a:pt x="22932" y="12454"/>
                  <a:pt x="22899" y="12437"/>
                </a:cubicBezTo>
                <a:cubicBezTo>
                  <a:pt x="22741" y="12356"/>
                  <a:pt x="22610" y="12282"/>
                  <a:pt x="22475" y="12167"/>
                </a:cubicBezTo>
                <a:cubicBezTo>
                  <a:pt x="22440" y="12137"/>
                  <a:pt x="22402" y="12109"/>
                  <a:pt x="22363" y="12084"/>
                </a:cubicBezTo>
                <a:cubicBezTo>
                  <a:pt x="22278" y="12031"/>
                  <a:pt x="22202" y="11984"/>
                  <a:pt x="22129" y="11914"/>
                </a:cubicBezTo>
                <a:cubicBezTo>
                  <a:pt x="22097" y="11883"/>
                  <a:pt x="22063" y="11855"/>
                  <a:pt x="22031" y="11824"/>
                </a:cubicBezTo>
                <a:cubicBezTo>
                  <a:pt x="22002" y="11796"/>
                  <a:pt x="21975" y="11766"/>
                  <a:pt x="21946" y="11739"/>
                </a:cubicBezTo>
                <a:cubicBezTo>
                  <a:pt x="21907" y="11703"/>
                  <a:pt x="21864" y="11673"/>
                  <a:pt x="21825" y="11637"/>
                </a:cubicBezTo>
                <a:cubicBezTo>
                  <a:pt x="21768" y="11586"/>
                  <a:pt x="21712" y="11531"/>
                  <a:pt x="21657" y="11480"/>
                </a:cubicBezTo>
                <a:cubicBezTo>
                  <a:pt x="21605" y="11432"/>
                  <a:pt x="21563" y="11379"/>
                  <a:pt x="21515" y="11327"/>
                </a:cubicBezTo>
                <a:cubicBezTo>
                  <a:pt x="21465" y="11272"/>
                  <a:pt x="21408" y="11213"/>
                  <a:pt x="21342" y="11176"/>
                </a:cubicBezTo>
                <a:cubicBezTo>
                  <a:pt x="21308" y="11157"/>
                  <a:pt x="21262" y="11152"/>
                  <a:pt x="21226" y="11135"/>
                </a:cubicBezTo>
                <a:cubicBezTo>
                  <a:pt x="21182" y="11114"/>
                  <a:pt x="21150" y="11086"/>
                  <a:pt x="21110" y="11061"/>
                </a:cubicBezTo>
                <a:cubicBezTo>
                  <a:pt x="20984" y="10983"/>
                  <a:pt x="20856" y="10919"/>
                  <a:pt x="20719" y="10867"/>
                </a:cubicBezTo>
              </a:path>
              <a:path w="2721" h="4213">
                <a:moveTo>
                  <a:pt x="21268" y="9405"/>
                </a:moveTo>
                <a:cubicBezTo>
                  <a:pt x="21300" y="9403"/>
                  <a:pt x="21332" y="9399"/>
                  <a:pt x="21364" y="9396"/>
                </a:cubicBezTo>
                <a:cubicBezTo>
                  <a:pt x="21564" y="9375"/>
                  <a:pt x="21752" y="9396"/>
                  <a:pt x="21952" y="9359"/>
                </a:cubicBezTo>
                <a:cubicBezTo>
                  <a:pt x="22015" y="9347"/>
                  <a:pt x="22076" y="9330"/>
                  <a:pt x="22140" y="9320"/>
                </a:cubicBezTo>
                <a:cubicBezTo>
                  <a:pt x="22264" y="9301"/>
                  <a:pt x="22390" y="9282"/>
                  <a:pt x="22510" y="9244"/>
                </a:cubicBezTo>
                <a:cubicBezTo>
                  <a:pt x="22611" y="9211"/>
                  <a:pt x="22714" y="9164"/>
                  <a:pt x="22801" y="9102"/>
                </a:cubicBezTo>
                <a:cubicBezTo>
                  <a:pt x="23010" y="8952"/>
                  <a:pt x="23097" y="8690"/>
                  <a:pt x="23262" y="8502"/>
                </a:cubicBezTo>
                <a:cubicBezTo>
                  <a:pt x="23315" y="8441"/>
                  <a:pt x="23370" y="8415"/>
                  <a:pt x="23439" y="83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677D-058E-453E-91C7-FD7ABD7A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26028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318960" y="1197000"/>
            <a:ext cx="4141800" cy="2541600"/>
          </a:xfrm>
          <a:custGeom>
            <a:avLst/>
            <a:gdLst>
              <a:gd name="textAreaLeft" fmla="*/ 0 w 4141800"/>
              <a:gd name="textAreaRight" fmla="*/ 4142160 w 41418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984240" y="1419120"/>
            <a:ext cx="30114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атств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как вод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1352520" y="2232000"/>
            <a:ext cx="1881360" cy="376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011320" y="3079800"/>
            <a:ext cx="1882800" cy="374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250920" y="1341360"/>
            <a:ext cx="1744560" cy="229068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4"/>
          <p:cNvSpPr/>
          <p:nvPr/>
        </p:nvSpPr>
        <p:spPr>
          <a:xfrm>
            <a:off x="4816440" y="33336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5089680" y="423720"/>
            <a:ext cx="29098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ига подоб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5815080" y="1335240"/>
            <a:ext cx="1819080" cy="36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6591240" y="2244600"/>
            <a:ext cx="1819440" cy="363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8"/>
          <p:cNvSpPr/>
          <p:nvPr/>
        </p:nvSpPr>
        <p:spPr>
          <a:xfrm>
            <a:off x="4756320" y="50652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6227640" y="1790640"/>
            <a:ext cx="1819440" cy="36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2"/>
          <p:cNvSpPr/>
          <p:nvPr/>
        </p:nvSpPr>
        <p:spPr>
          <a:xfrm>
            <a:off x="890640" y="414972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1163520" y="4240080"/>
            <a:ext cx="29098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птиц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а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1835280" y="5011560"/>
            <a:ext cx="1819080" cy="362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2665440" y="6060960"/>
            <a:ext cx="1819080" cy="363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6"/>
          <p:cNvSpPr/>
          <p:nvPr/>
        </p:nvSpPr>
        <p:spPr>
          <a:xfrm>
            <a:off x="797040" y="432288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8"/>
          <p:cNvSpPr/>
          <p:nvPr/>
        </p:nvSpPr>
        <p:spPr>
          <a:xfrm>
            <a:off x="4889520" y="3068640"/>
            <a:ext cx="4003560" cy="331308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da1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0"/>
          <p:cNvSpPr/>
          <p:nvPr/>
        </p:nvSpPr>
        <p:spPr>
          <a:xfrm>
            <a:off x="4915080" y="3284640"/>
            <a:ext cx="1812600" cy="306072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5407200" y="3668760"/>
            <a:ext cx="290988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е од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день быть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чем тысячу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5867280" y="4437000"/>
            <a:ext cx="1819440" cy="362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3"/>
          <p:cNvSpPr/>
          <p:nvPr/>
        </p:nvSpPr>
        <p:spPr>
          <a:xfrm>
            <a:off x="6640560" y="5659560"/>
            <a:ext cx="1819080" cy="361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4"/>
          <p:cNvSpPr/>
          <p:nvPr/>
        </p:nvSpPr>
        <p:spPr>
          <a:xfrm>
            <a:off x="7667640" y="4437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5"/>
          <p:cNvSpPr/>
          <p:nvPr/>
        </p:nvSpPr>
        <p:spPr>
          <a:xfrm>
            <a:off x="3635280" y="501336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31A-BAC8-47ED-9DBC-0F9208CE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318960" y="1197000"/>
            <a:ext cx="4141800" cy="2541600"/>
          </a:xfrm>
          <a:custGeom>
            <a:avLst/>
            <a:gdLst>
              <a:gd name="textAreaLeft" fmla="*/ 0 w 4141800"/>
              <a:gd name="textAreaRight" fmla="*/ 4142160 w 41418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114560" y="1562040"/>
            <a:ext cx="352872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атств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как вод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итекает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те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235080" y="1374840"/>
            <a:ext cx="1744560" cy="229068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"/>
          <p:cNvSpPr/>
          <p:nvPr/>
        </p:nvSpPr>
        <p:spPr>
          <a:xfrm>
            <a:off x="4816440" y="33336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5089680" y="423720"/>
            <a:ext cx="30826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нига подоб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воде:</a:t>
            </a:r>
            <a:br>
              <a:rPr sz="2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дорогу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пробьёт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вез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2"/>
          <p:cNvSpPr/>
          <p:nvPr/>
        </p:nvSpPr>
        <p:spPr>
          <a:xfrm>
            <a:off x="4756320" y="50652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4"/>
          <p:cNvSpPr/>
          <p:nvPr/>
        </p:nvSpPr>
        <p:spPr>
          <a:xfrm>
            <a:off x="890640" y="4149720"/>
            <a:ext cx="4003560" cy="245736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1446120" y="4389480"/>
            <a:ext cx="290988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птиц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ерье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а челове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чень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8"/>
          <p:cNvSpPr/>
          <p:nvPr/>
        </p:nvSpPr>
        <p:spPr>
          <a:xfrm>
            <a:off x="797040" y="4322880"/>
            <a:ext cx="1687320" cy="2214360"/>
          </a:xfrm>
          <a:custGeom>
            <a:avLst/>
            <a:gdLst>
              <a:gd name="textAreaLeft" fmla="*/ 0 w 1687320"/>
              <a:gd name="textAreaRight" fmla="*/ 1687680 w 1687320"/>
              <a:gd name="textAreaTop" fmla="*/ 0 h 2214360"/>
              <a:gd name="textAreaBottom" fmla="*/ 2214720 h 22143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9"/>
          <p:cNvSpPr/>
          <p:nvPr/>
        </p:nvSpPr>
        <p:spPr>
          <a:xfrm>
            <a:off x="4889520" y="3068640"/>
            <a:ext cx="4003560" cy="3313080"/>
          </a:xfrm>
          <a:custGeom>
            <a:avLst/>
            <a:gdLst>
              <a:gd name="textAreaLeft" fmla="*/ 0 w 4003560"/>
              <a:gd name="textAreaRight" fmla="*/ 4003920 w 40035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da1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0"/>
          <p:cNvSpPr/>
          <p:nvPr/>
        </p:nvSpPr>
        <p:spPr>
          <a:xfrm>
            <a:off x="4915080" y="3284640"/>
            <a:ext cx="1812600" cy="306072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407200" y="3668760"/>
            <a:ext cx="290988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е од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день бы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еловеко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чем тысячу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ег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енью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395280" y="260280"/>
            <a:ext cx="41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6AEE-07BA-49B2-A5D8-071A3027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684360" y="979560"/>
            <a:ext cx="806436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ОЧЕМУ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</a:t>
            </a: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ченик философа Аристотеля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великий полководец</a:t>
            </a:r>
            <a:br>
              <a:rPr sz="3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Александр Македонский,</a:t>
            </a:r>
            <a:br>
              <a:rPr sz="4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который завоевал почти весь мир,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перед смертью оставил завещание: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«Похороните меня с открытыми</a:t>
            </a:r>
            <a:br>
              <a:rPr sz="3000"/>
            </a:br>
            <a:r>
              <a:rPr b="1" lang="ru-RU" sz="3000" spc="-1" strike="noStrike">
                <a:solidFill>
                  <a:srgbClr val="008000"/>
                </a:solidFill>
                <a:latin typeface="Arial"/>
              </a:rPr>
              <a:t>руками, повернутыми ладонями вверх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ristotel_2"/>
          <p:cNvPicPr/>
          <p:nvPr/>
        </p:nvPicPr>
        <p:blipFill>
          <a:blip r:embed="rId1"/>
          <a:stretch/>
        </p:blipFill>
        <p:spPr>
          <a:xfrm>
            <a:off x="871560" y="115920"/>
            <a:ext cx="1900080" cy="2663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makedonski_2"/>
          <p:cNvPicPr/>
          <p:nvPr/>
        </p:nvPicPr>
        <p:blipFill>
          <a:blip r:embed="rId2"/>
          <a:stretch/>
        </p:blipFill>
        <p:spPr>
          <a:xfrm>
            <a:off x="6300720" y="117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206C-215F-4573-845E-D86238520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318960" y="719280"/>
            <a:ext cx="3461040" cy="2124000"/>
          </a:xfrm>
          <a:custGeom>
            <a:avLst/>
            <a:gdLst>
              <a:gd name="textAreaLeft" fmla="*/ 0 w 3461040"/>
              <a:gd name="textAreaRight" fmla="*/ 3461400 w 346104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934920"/>
            <a:ext cx="21589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еугольны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7"/>
          <p:cNvSpPr/>
          <p:nvPr/>
        </p:nvSpPr>
        <p:spPr>
          <a:xfrm>
            <a:off x="306360" y="896760"/>
            <a:ext cx="1457280" cy="1913040"/>
          </a:xfrm>
          <a:custGeom>
            <a:avLst/>
            <a:gdLst>
              <a:gd name="textAreaLeft" fmla="*/ 0 w 1457280"/>
              <a:gd name="textAreaRight" fmla="*/ 1457640 w 1457280"/>
              <a:gd name="textAreaTop" fmla="*/ 0 h 1913040"/>
              <a:gd name="textAreaBottom" fmla="*/ 1913400 h 191304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4816440" y="333360"/>
            <a:ext cx="3211560" cy="197172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5046840" y="430200"/>
            <a:ext cx="2117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ософски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2"/>
          <p:cNvSpPr/>
          <p:nvPr/>
        </p:nvSpPr>
        <p:spPr>
          <a:xfrm>
            <a:off x="4716360" y="430200"/>
            <a:ext cx="1352520" cy="1774800"/>
          </a:xfrm>
          <a:custGeom>
            <a:avLst/>
            <a:gdLst>
              <a:gd name="textAreaLeft" fmla="*/ 0 w 1352520"/>
              <a:gd name="textAreaRight" fmla="*/ 1352880 w 13525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4"/>
          <p:cNvSpPr/>
          <p:nvPr/>
        </p:nvSpPr>
        <p:spPr>
          <a:xfrm>
            <a:off x="561960" y="3095640"/>
            <a:ext cx="3249720" cy="1994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1994040"/>
              <a:gd name="textAreaBottom" fmla="*/ 1994400 h 199404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a0ee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835200" y="3236760"/>
            <a:ext cx="29098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претк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8"/>
          <p:cNvSpPr/>
          <p:nvPr/>
        </p:nvSpPr>
        <p:spPr>
          <a:xfrm>
            <a:off x="538200" y="3268800"/>
            <a:ext cx="1369800" cy="179856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841" h="1104">
                <a:moveTo>
                  <a:pt x="60" y="0"/>
                </a:moveTo>
                <a:cubicBezTo>
                  <a:pt x="88" y="42"/>
                  <a:pt x="108" y="56"/>
                  <a:pt x="156" y="72"/>
                </a:cubicBezTo>
                <a:cubicBezTo>
                  <a:pt x="164" y="84"/>
                  <a:pt x="169" y="99"/>
                  <a:pt x="180" y="108"/>
                </a:cubicBezTo>
                <a:cubicBezTo>
                  <a:pt x="202" y="127"/>
                  <a:pt x="252" y="156"/>
                  <a:pt x="252" y="156"/>
                </a:cubicBezTo>
                <a:cubicBezTo>
                  <a:pt x="282" y="246"/>
                  <a:pt x="238" y="138"/>
                  <a:pt x="300" y="216"/>
                </a:cubicBezTo>
                <a:cubicBezTo>
                  <a:pt x="308" y="226"/>
                  <a:pt x="306" y="241"/>
                  <a:pt x="312" y="252"/>
                </a:cubicBezTo>
                <a:cubicBezTo>
                  <a:pt x="359" y="345"/>
                  <a:pt x="318" y="234"/>
                  <a:pt x="348" y="324"/>
                </a:cubicBezTo>
                <a:cubicBezTo>
                  <a:pt x="356" y="488"/>
                  <a:pt x="300" y="609"/>
                  <a:pt x="456" y="648"/>
                </a:cubicBezTo>
                <a:cubicBezTo>
                  <a:pt x="485" y="734"/>
                  <a:pt x="459" y="706"/>
                  <a:pt x="516" y="744"/>
                </a:cubicBezTo>
                <a:cubicBezTo>
                  <a:pt x="548" y="840"/>
                  <a:pt x="500" y="728"/>
                  <a:pt x="564" y="792"/>
                </a:cubicBezTo>
                <a:cubicBezTo>
                  <a:pt x="573" y="801"/>
                  <a:pt x="570" y="817"/>
                  <a:pt x="576" y="828"/>
                </a:cubicBezTo>
                <a:cubicBezTo>
                  <a:pt x="590" y="853"/>
                  <a:pt x="608" y="876"/>
                  <a:pt x="624" y="900"/>
                </a:cubicBezTo>
                <a:cubicBezTo>
                  <a:pt x="640" y="924"/>
                  <a:pt x="672" y="932"/>
                  <a:pt x="696" y="948"/>
                </a:cubicBezTo>
                <a:cubicBezTo>
                  <a:pt x="708" y="956"/>
                  <a:pt x="732" y="972"/>
                  <a:pt x="732" y="972"/>
                </a:cubicBezTo>
                <a:cubicBezTo>
                  <a:pt x="799" y="905"/>
                  <a:pt x="760" y="926"/>
                  <a:pt x="780" y="1056"/>
                </a:cubicBezTo>
                <a:cubicBezTo>
                  <a:pt x="782" y="1069"/>
                  <a:pt x="783" y="1083"/>
                  <a:pt x="792" y="1092"/>
                </a:cubicBezTo>
                <a:cubicBezTo>
                  <a:pt x="801" y="1101"/>
                  <a:pt x="841" y="1104"/>
                  <a:pt x="828" y="1104"/>
                </a:cubicBezTo>
                <a:cubicBezTo>
                  <a:pt x="692" y="1104"/>
                  <a:pt x="556" y="1096"/>
                  <a:pt x="420" y="1092"/>
                </a:cubicBezTo>
                <a:cubicBezTo>
                  <a:pt x="338" y="969"/>
                  <a:pt x="357" y="1009"/>
                  <a:pt x="168" y="996"/>
                </a:cubicBezTo>
                <a:cubicBezTo>
                  <a:pt x="117" y="962"/>
                  <a:pt x="99" y="910"/>
                  <a:pt x="48" y="876"/>
                </a:cubicBezTo>
                <a:cubicBezTo>
                  <a:pt x="19" y="790"/>
                  <a:pt x="38" y="825"/>
                  <a:pt x="0" y="768"/>
                </a:cubicBezTo>
                <a:cubicBezTo>
                  <a:pt x="10" y="682"/>
                  <a:pt x="12" y="601"/>
                  <a:pt x="60" y="528"/>
                </a:cubicBezTo>
                <a:cubicBezTo>
                  <a:pt x="73" y="56"/>
                  <a:pt x="93" y="231"/>
                  <a:pt x="6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4889520" y="2637000"/>
            <a:ext cx="2995560" cy="247968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2479680"/>
              <a:gd name="textAreaBottom" fmla="*/ 2480040 h 2479680"/>
            </a:gdLst>
            <a:ahLst/>
            <a:rect l="textAreaLeft" t="textAreaTop" r="textAreaRight" b="textAreaBottom"/>
            <a:pathLst>
              <a:path w="1666" h="1023">
                <a:moveTo>
                  <a:pt x="7" y="108"/>
                </a:moveTo>
                <a:cubicBezTo>
                  <a:pt x="23" y="112"/>
                  <a:pt x="40" y="113"/>
                  <a:pt x="55" y="120"/>
                </a:cubicBezTo>
                <a:cubicBezTo>
                  <a:pt x="81" y="133"/>
                  <a:pt x="127" y="168"/>
                  <a:pt x="127" y="168"/>
                </a:cubicBezTo>
                <a:cubicBezTo>
                  <a:pt x="184" y="254"/>
                  <a:pt x="155" y="220"/>
                  <a:pt x="211" y="276"/>
                </a:cubicBezTo>
                <a:cubicBezTo>
                  <a:pt x="219" y="300"/>
                  <a:pt x="232" y="323"/>
                  <a:pt x="235" y="348"/>
                </a:cubicBezTo>
                <a:cubicBezTo>
                  <a:pt x="243" y="412"/>
                  <a:pt x="223" y="486"/>
                  <a:pt x="259" y="540"/>
                </a:cubicBezTo>
                <a:cubicBezTo>
                  <a:pt x="275" y="564"/>
                  <a:pt x="291" y="588"/>
                  <a:pt x="307" y="612"/>
                </a:cubicBezTo>
                <a:cubicBezTo>
                  <a:pt x="315" y="624"/>
                  <a:pt x="319" y="640"/>
                  <a:pt x="331" y="648"/>
                </a:cubicBezTo>
                <a:cubicBezTo>
                  <a:pt x="407" y="699"/>
                  <a:pt x="425" y="740"/>
                  <a:pt x="475" y="804"/>
                </a:cubicBezTo>
                <a:cubicBezTo>
                  <a:pt x="489" y="822"/>
                  <a:pt x="509" y="834"/>
                  <a:pt x="523" y="852"/>
                </a:cubicBezTo>
                <a:cubicBezTo>
                  <a:pt x="540" y="873"/>
                  <a:pt x="575" y="942"/>
                  <a:pt x="607" y="960"/>
                </a:cubicBezTo>
                <a:cubicBezTo>
                  <a:pt x="673" y="996"/>
                  <a:pt x="776" y="1010"/>
                  <a:pt x="847" y="1020"/>
                </a:cubicBezTo>
                <a:cubicBezTo>
                  <a:pt x="1055" y="1016"/>
                  <a:pt x="1264" y="1023"/>
                  <a:pt x="1471" y="1008"/>
                </a:cubicBezTo>
                <a:cubicBezTo>
                  <a:pt x="1494" y="1006"/>
                  <a:pt x="1517" y="948"/>
                  <a:pt x="1531" y="936"/>
                </a:cubicBezTo>
                <a:cubicBezTo>
                  <a:pt x="1553" y="917"/>
                  <a:pt x="1579" y="904"/>
                  <a:pt x="1603" y="888"/>
                </a:cubicBezTo>
                <a:cubicBezTo>
                  <a:pt x="1615" y="880"/>
                  <a:pt x="1639" y="864"/>
                  <a:pt x="1639" y="864"/>
                </a:cubicBezTo>
                <a:cubicBezTo>
                  <a:pt x="1666" y="782"/>
                  <a:pt x="1618" y="719"/>
                  <a:pt x="1555" y="672"/>
                </a:cubicBezTo>
                <a:cubicBezTo>
                  <a:pt x="1521" y="571"/>
                  <a:pt x="1469" y="575"/>
                  <a:pt x="1399" y="528"/>
                </a:cubicBezTo>
                <a:cubicBezTo>
                  <a:pt x="1370" y="440"/>
                  <a:pt x="1393" y="474"/>
                  <a:pt x="1339" y="420"/>
                </a:cubicBezTo>
                <a:cubicBezTo>
                  <a:pt x="1308" y="326"/>
                  <a:pt x="1325" y="307"/>
                  <a:pt x="1231" y="276"/>
                </a:cubicBezTo>
                <a:cubicBezTo>
                  <a:pt x="1175" y="192"/>
                  <a:pt x="1207" y="220"/>
                  <a:pt x="1147" y="180"/>
                </a:cubicBezTo>
                <a:cubicBezTo>
                  <a:pt x="1126" y="117"/>
                  <a:pt x="1079" y="107"/>
                  <a:pt x="1027" y="72"/>
                </a:cubicBezTo>
                <a:cubicBezTo>
                  <a:pt x="1006" y="58"/>
                  <a:pt x="955" y="48"/>
                  <a:pt x="955" y="48"/>
                </a:cubicBezTo>
                <a:cubicBezTo>
                  <a:pt x="772" y="58"/>
                  <a:pt x="552" y="107"/>
                  <a:pt x="391" y="0"/>
                </a:cubicBezTo>
                <a:cubicBezTo>
                  <a:pt x="279" y="7"/>
                  <a:pt x="185" y="9"/>
                  <a:pt x="79" y="36"/>
                </a:cubicBezTo>
                <a:cubicBezTo>
                  <a:pt x="0" y="88"/>
                  <a:pt x="7" y="55"/>
                  <a:pt x="7" y="108"/>
                </a:cubicBezTo>
                <a:close/>
              </a:path>
            </a:pathLst>
          </a:custGeom>
          <a:solidFill>
            <a:srgbClr val="fda1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0"/>
          <p:cNvSpPr/>
          <p:nvPr/>
        </p:nvSpPr>
        <p:spPr>
          <a:xfrm>
            <a:off x="4943520" y="2793960"/>
            <a:ext cx="1357200" cy="229068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1142" h="1928">
                <a:moveTo>
                  <a:pt x="0" y="37"/>
                </a:moveTo>
                <a:cubicBezTo>
                  <a:pt x="61" y="52"/>
                  <a:pt x="110" y="91"/>
                  <a:pt x="132" y="157"/>
                </a:cubicBezTo>
                <a:cubicBezTo>
                  <a:pt x="136" y="169"/>
                  <a:pt x="136" y="183"/>
                  <a:pt x="144" y="193"/>
                </a:cubicBezTo>
                <a:cubicBezTo>
                  <a:pt x="161" y="214"/>
                  <a:pt x="192" y="221"/>
                  <a:pt x="216" y="229"/>
                </a:cubicBezTo>
                <a:cubicBezTo>
                  <a:pt x="232" y="307"/>
                  <a:pt x="242" y="328"/>
                  <a:pt x="288" y="397"/>
                </a:cubicBezTo>
                <a:cubicBezTo>
                  <a:pt x="296" y="409"/>
                  <a:pt x="307" y="419"/>
                  <a:pt x="312" y="433"/>
                </a:cubicBezTo>
                <a:cubicBezTo>
                  <a:pt x="320" y="457"/>
                  <a:pt x="336" y="505"/>
                  <a:pt x="336" y="505"/>
                </a:cubicBezTo>
                <a:cubicBezTo>
                  <a:pt x="350" y="1008"/>
                  <a:pt x="295" y="796"/>
                  <a:pt x="384" y="997"/>
                </a:cubicBezTo>
                <a:cubicBezTo>
                  <a:pt x="414" y="1065"/>
                  <a:pt x="404" y="1087"/>
                  <a:pt x="468" y="1129"/>
                </a:cubicBezTo>
                <a:cubicBezTo>
                  <a:pt x="476" y="1141"/>
                  <a:pt x="482" y="1155"/>
                  <a:pt x="492" y="1165"/>
                </a:cubicBezTo>
                <a:cubicBezTo>
                  <a:pt x="502" y="1175"/>
                  <a:pt x="519" y="1178"/>
                  <a:pt x="528" y="1189"/>
                </a:cubicBezTo>
                <a:cubicBezTo>
                  <a:pt x="570" y="1237"/>
                  <a:pt x="591" y="1288"/>
                  <a:pt x="636" y="1333"/>
                </a:cubicBezTo>
                <a:cubicBezTo>
                  <a:pt x="648" y="1369"/>
                  <a:pt x="660" y="1405"/>
                  <a:pt x="672" y="1441"/>
                </a:cubicBezTo>
                <a:cubicBezTo>
                  <a:pt x="676" y="1453"/>
                  <a:pt x="673" y="1470"/>
                  <a:pt x="684" y="1477"/>
                </a:cubicBezTo>
                <a:cubicBezTo>
                  <a:pt x="708" y="1493"/>
                  <a:pt x="732" y="1509"/>
                  <a:pt x="756" y="1525"/>
                </a:cubicBezTo>
                <a:cubicBezTo>
                  <a:pt x="768" y="1533"/>
                  <a:pt x="792" y="1549"/>
                  <a:pt x="792" y="1549"/>
                </a:cubicBezTo>
                <a:cubicBezTo>
                  <a:pt x="800" y="1561"/>
                  <a:pt x="811" y="1571"/>
                  <a:pt x="816" y="1585"/>
                </a:cubicBezTo>
                <a:cubicBezTo>
                  <a:pt x="824" y="1609"/>
                  <a:pt x="818" y="1674"/>
                  <a:pt x="852" y="1693"/>
                </a:cubicBezTo>
                <a:cubicBezTo>
                  <a:pt x="870" y="1703"/>
                  <a:pt x="892" y="1701"/>
                  <a:pt x="912" y="1705"/>
                </a:cubicBezTo>
                <a:cubicBezTo>
                  <a:pt x="924" y="1740"/>
                  <a:pt x="922" y="1811"/>
                  <a:pt x="948" y="1837"/>
                </a:cubicBezTo>
                <a:cubicBezTo>
                  <a:pt x="957" y="1846"/>
                  <a:pt x="973" y="1843"/>
                  <a:pt x="984" y="1849"/>
                </a:cubicBezTo>
                <a:cubicBezTo>
                  <a:pt x="1142" y="1928"/>
                  <a:pt x="754" y="1862"/>
                  <a:pt x="732" y="1861"/>
                </a:cubicBezTo>
                <a:cubicBezTo>
                  <a:pt x="688" y="1832"/>
                  <a:pt x="651" y="1814"/>
                  <a:pt x="600" y="1801"/>
                </a:cubicBezTo>
                <a:cubicBezTo>
                  <a:pt x="483" y="1723"/>
                  <a:pt x="400" y="1760"/>
                  <a:pt x="228" y="1753"/>
                </a:cubicBezTo>
                <a:cubicBezTo>
                  <a:pt x="183" y="1708"/>
                  <a:pt x="161" y="1656"/>
                  <a:pt x="108" y="1621"/>
                </a:cubicBezTo>
                <a:cubicBezTo>
                  <a:pt x="12" y="1477"/>
                  <a:pt x="78" y="1365"/>
                  <a:pt x="84" y="1153"/>
                </a:cubicBezTo>
                <a:cubicBezTo>
                  <a:pt x="80" y="1017"/>
                  <a:pt x="78" y="881"/>
                  <a:pt x="72" y="745"/>
                </a:cubicBezTo>
                <a:cubicBezTo>
                  <a:pt x="69" y="681"/>
                  <a:pt x="54" y="625"/>
                  <a:pt x="36" y="565"/>
                </a:cubicBezTo>
                <a:cubicBezTo>
                  <a:pt x="29" y="541"/>
                  <a:pt x="12" y="493"/>
                  <a:pt x="12" y="493"/>
                </a:cubicBezTo>
                <a:cubicBezTo>
                  <a:pt x="8" y="369"/>
                  <a:pt x="0" y="245"/>
                  <a:pt x="0" y="121"/>
                </a:cubicBezTo>
                <a:cubicBezTo>
                  <a:pt x="0" y="0"/>
                  <a:pt x="38" y="187"/>
                  <a:pt x="0" y="37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5364000" y="2997360"/>
            <a:ext cx="21178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шебны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826920" y="5445000"/>
            <a:ext cx="2303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6"/>
          <p:cNvSpPr/>
          <p:nvPr/>
        </p:nvSpPr>
        <p:spPr>
          <a:xfrm>
            <a:off x="611280" y="5373720"/>
            <a:ext cx="251928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826920" y="6164280"/>
            <a:ext cx="26654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ги не пах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8"/>
          <p:cNvSpPr/>
          <p:nvPr/>
        </p:nvSpPr>
        <p:spPr>
          <a:xfrm>
            <a:off x="468360" y="6093000"/>
            <a:ext cx="295128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4859280" y="5373720"/>
            <a:ext cx="2737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 есть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0"/>
          <p:cNvSpPr/>
          <p:nvPr/>
        </p:nvSpPr>
        <p:spPr>
          <a:xfrm>
            <a:off x="4500720" y="5302080"/>
            <a:ext cx="295092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4498920" y="6093000"/>
            <a:ext cx="3168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ши творить до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2"/>
          <p:cNvSpPr/>
          <p:nvPr/>
        </p:nvSpPr>
        <p:spPr>
          <a:xfrm>
            <a:off x="4140360" y="6021360"/>
            <a:ext cx="395892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50920" y="-27000"/>
            <a:ext cx="410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cc"/>
                </a:solidFill>
                <a:uFillTx/>
                <a:latin typeface="Arial"/>
              </a:rPr>
              <a:t>Парк Академ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Sale</cp:lastModifiedBy>
  <dcterms:modified xsi:type="dcterms:W3CDTF">2010-11-03T11:27:40Z</dcterms:modified>
  <cp:revision>122</cp:revision>
  <dc:subject/>
  <dc:title>Slide 1</dc:title>
</cp:coreProperties>
</file>