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95F-9CAD-4A0B-A999-1BE225EF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601-0E4D-4189-896C-861F16A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C41-A3A7-4D92-9C73-29B9064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62F-092F-4845-8565-57994674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C65-1EE8-413A-BEC4-57EBC89B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CAF-4BA2-4E9D-AB0C-C61078E2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205-B439-4F33-A2CA-4A9CED3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2FC-F160-42BA-9385-02092DC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016-FCC3-4589-9D4B-2C1A1F0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9BD-6571-44C3-8D23-D204E7D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C50-6697-401F-B5D7-5BF091A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E5A-A0AD-40E8-83E3-07778C4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08E4-CB27-476B-B5B4-B14DC88E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ердце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117360"/>
            <a:ext cx="381636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ГИМН О ЛЮБВ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я говорю языкам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еловеческими и ангельским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– медь звенящая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ли кимвол звучащ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ли имею дар пророчеств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ю все тайны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имею всякое познани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всю веру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 что могу и горы переставлять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не имею любв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 я ничт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если я раздам всё имение моё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дам тело на сожжени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любви не имею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т мне в этом никакой пользы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долготерп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илосерд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завид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е превозноси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гордится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930920" y="1440"/>
            <a:ext cx="41050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бесчинству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ищет своего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здража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мыслит зла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радуется неправд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сорадуется истин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окрывае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му вери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го надее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е переноси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юбовь никогда не перестаё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отя и пропрочества прекратятся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языки умолкнут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знание упразднится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бо мы отчасти знаем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тчасти пророчествуем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гда же наступит совершенно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гда то, что отчасти, прекратится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теперь пребывают три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а, Надежда, Любовь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 Любовь из них больше..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ог есть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 rot="10800000">
            <a:off x="1331640" y="333360"/>
            <a:ext cx="6264360" cy="6524640"/>
          </a:xfrm>
          <a:prstGeom prst="verticalScroll">
            <a:avLst>
              <a:gd name="adj" fmla="val 12500"/>
            </a:avLst>
          </a:prstGeom>
          <a:solidFill>
            <a:srgbClr val="a1f4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411280" y="1120680"/>
            <a:ext cx="4248360" cy="4108680"/>
          </a:xfrm>
          <a:custGeom>
            <a:avLst/>
            <a:gdLst>
              <a:gd name="textAreaLeft" fmla="*/ 990720 w 4248360"/>
              <a:gd name="textAreaRight" fmla="*/ 3256560 w 4248360"/>
              <a:gd name="textAreaTop" fmla="*/ 433080 h 4108680"/>
              <a:gd name="textAreaBottom" fmla="*/ 2601720 h 4108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bd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08000" y="404640"/>
            <a:ext cx="50421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СПОДИ!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руй мне Сердце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лобив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крыт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рую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бяще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щедро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стойное вместилище,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бя Всеблагого!</a:t>
            </a:r>
            <a:br>
              <a:rPr sz="2400"/>
            </a:br>
            <a:br>
              <a:rPr sz="24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СВЯТОЙ ПРАВЕДНИК </a:t>
            </a:r>
            <a:br>
              <a:rPr sz="1600"/>
            </a:b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ИОАНН КРОНШТАД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0920" y="333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рдце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340000" y="2062080"/>
            <a:ext cx="468144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Солнце всех солнц есть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48000" y="3645000"/>
            <a:ext cx="2232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: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 Что такое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 Как облагораживать Сердце?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Заглянем в св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572000" y="404640"/>
            <a:ext cx="4103640" cy="863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«Источник богатств, духовных и материальных, есть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Сердц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50920" y="1197000"/>
            <a:ext cx="1655640" cy="14400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«Вся жизнь проходит через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ердце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539640" y="2852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Где сокровища человека, там и буде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50920" y="3860640"/>
            <a:ext cx="2736720" cy="144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Добрый человек из доброг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дц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ыносит доброе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лой человек из 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938920" y="3718080"/>
            <a:ext cx="3025800" cy="2447640"/>
          </a:xfrm>
          <a:prstGeom prst="rect">
            <a:avLst/>
          </a:prstGeom>
          <a:solidFill>
            <a:srgbClr val="a3f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Выводы: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ердце есть Свыше действующий орган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ужно дать Сердцу постоянную работу.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Пусть будет в Сердце моем чист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6920" y="117360"/>
            <a:ext cx="7848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УДРОСТЬ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любит цветы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устремление ввысь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чисто мыслит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знает о Мирах Высших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то готов к беспредельности, тот на пут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532720" y="623736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549440" y="476280"/>
            <a:ext cx="6335640" cy="5905440"/>
          </a:xfrm>
          <a:custGeom>
            <a:avLst/>
            <a:gdLst>
              <a:gd name="textAreaLeft" fmla="*/ 1477440 w 6335640"/>
              <a:gd name="textAreaRight" fmla="*/ 4856400 w 6335640"/>
              <a:gd name="textAreaTop" fmla="*/ 622440 h 5905440"/>
              <a:gd name="textAreaBottom" fmla="*/ 3739320 h 5905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cee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26920" y="191772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ff"/>
                </a:solidFill>
                <a:uFillTx/>
                <a:latin typeface="Arial"/>
              </a:rPr>
              <a:t>СПАСИБО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5280" y="693720"/>
            <a:ext cx="86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ужно дать Сердцу постоянную работу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Amon</cp:lastModifiedBy>
  <dcterms:modified xsi:type="dcterms:W3CDTF">2010-02-14T07:04:06Z</dcterms:modified>
  <cp:revision>124</cp:revision>
  <dc:subject/>
  <dc:title>Slide 1</dc:title>
</cp:coreProperties>
</file>